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766711"/>
        <c:axId val="96449237"/>
      </c:barChart>
      <c:catAx>
        <c:axId val="817667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49237"/>
        <c:crosses val="autoZero"/>
        <c:auto val="1"/>
        <c:lblAlgn val="ctr"/>
        <c:lblOffset val="100"/>
        <c:noMultiLvlLbl val="0"/>
      </c:catAx>
      <c:valAx>
        <c:axId val="964492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667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FE9D-E67E-403A-931C-4AA723BD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13A6-1292-4996-9068-6327280D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C0E7-4EA8-4149-B90F-EF780C056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4D2B-6335-4307-B9A3-DA735931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EBE5-9A83-4018-90CC-FD948F8CC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95A0-7336-488A-88EC-EDB746410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A1E1-0FE4-477C-8782-0B0C3B0D7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B6DE-7B74-4471-9663-68FB1EEB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FEA8-2CB8-41AC-BCFF-9093DB08A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2EF6-66F4-4FE9-A61F-F1BE33C2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8137-55D4-4499-BCD4-260E24792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9852-1A57-4A41-AEF4-C64B5D5F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D77F9-AF33-44A6-AE7D-C9FFE1F149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