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25582"/>
        <c:axId val="3694166"/>
      </c:barChart>
      <c:catAx>
        <c:axId val="77925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4166"/>
        <c:crosses val="autoZero"/>
        <c:auto val="1"/>
        <c:lblAlgn val="ctr"/>
        <c:lblOffset val="100"/>
        <c:noMultiLvlLbl val="0"/>
      </c:catAx>
      <c:valAx>
        <c:axId val="3694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5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DE3-6673-4A91-BC96-2FCB1169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0F0-5FA8-4AD2-9136-2E74089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956-4A0F-48A6-A099-A97C260C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C39-56B3-4174-91B6-FA7784F1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241-3DC5-43CC-B374-91D6FFC0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E17-B63B-4591-A1EA-A10DF7F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A8E-715A-4807-BA49-8162589A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868-535A-49D3-9D80-0C5EACC9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3A9-323C-4333-8FFF-F599B575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8B0-009B-41BF-A80D-3248FC1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FE2-6651-4169-A647-3F30AA6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B9B-5714-47DD-8516-2E5A79A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BD23A-992E-45BD-8CFF-2C2A68041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