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42968"/>
        <c:axId val="40183886"/>
      </c:barChart>
      <c:catAx>
        <c:axId val="49742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3886"/>
        <c:crosses val="autoZero"/>
        <c:auto val="1"/>
        <c:lblAlgn val="ctr"/>
        <c:lblOffset val="100"/>
        <c:noMultiLvlLbl val="0"/>
      </c:catAx>
      <c:valAx>
        <c:axId val="40183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2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48F-EF95-4405-84DE-F63129E5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D84-BB00-406A-956E-B277D878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41F-9616-4A77-BB4A-00B0E45D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E1A-E2CD-4063-B308-C5076642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FF8-BFF4-4CFD-8B01-DFA5EEA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7FE-ADC4-43A2-B458-9DCEEFDD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DA1-6F58-4D6A-9AA6-6743F3B0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7FD-D299-4451-8BF8-4548559A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768-008A-4DE9-82C0-BADFB1E8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7E0-1B78-4E42-AC45-0991CEF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1E3-6DFF-48D3-A0D6-E81A6BB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74E-4AB3-4AEA-A515-E4C2A063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D6DA8-1C93-4DC8-8D1B-AE632F13C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