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6FAEB6-88EF-470F-AB29-0FE3AF434B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8CACB9-6601-436E-81CC-5A6A5ED935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3CAFFC-4139-404C-9700-5C21A48EC2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A4431E-BC46-4FF9-8894-491B9AA609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678AE0-12EA-497C-AEA9-A6A31854B06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745B58-0700-47EE-B5E9-0AB350A381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C63B98-A903-481E-834A-75A95F4B57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4B4BC0-AA15-4A7C-BC9E-D4235EB08D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B88BFC-2DA6-4DDC-9FCD-71099E8BD8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2B1FB3-19F9-49A0-8DD6-007C2E36BC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43FC10-F3E1-4B83-9C13-5CA664E5F9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A92A88-AE53-47BB-9322-594AC910C3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54F136-15B8-4DEC-939A-51939DB7F8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356488-E4B6-415D-9DE1-1643B45D54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7D8DC9-8CE7-4540-BC4E-F9F04F5C7F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66801A0-204F-4AAD-AB67-B30E7A54A6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266B95-1506-4910-AE3D-3A01E84376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0481D4-301C-47B6-BF50-E6C38BDC8E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F4471E-7223-4D20-9215-10C871D122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7E2EC5-FBAC-44CD-8238-66F56313D6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039B78-EF6E-4B22-B8BF-28478332B0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8C0FF9-5E16-4B3B-9552-59C40448C6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CEF5C8-8F8F-4CD7-B0AE-0A318C8948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9DE0D5-82A2-45F7-A0F3-C08E7B30E7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DB590-7F7B-4D6C-9BC8-1D55655784C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5F527-1791-443C-800B-EC5FC10018B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F2AB458-E6A4-467C-BCB0-F5894F0DF12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30BDD4C-3BA9-4D17-AC8E-4F178AF1E5F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80D4D9-01CB-47E3-AAB3-103088AEA53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500E7D-A982-47C2-9F80-635C252D09A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08DFF5-C4CC-4615-89DC-0D40A40A1DA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309357-C6B1-4EB9-A888-BC69E6DBF35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551482-A855-401D-8B64-775A7F7AA83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4E8D4E-B3CC-422C-84FA-D2B6E6EAACDC}"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A7A7B8-C03F-432E-8715-B1FE390774E1}"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EDA9F1-5203-4335-8913-94EB1B3E2F07}"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B0914D-5585-4A79-A3DC-3D7984FC68C3}"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71966D-02AB-4280-A8A6-B6060022042D}"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DEC58A-E6A5-4C79-B65E-9F97CF0F5E9B}"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97CBB9-A969-4235-9B6E-58EFFB9F0E2C}"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CBCA35-8453-4494-98ED-2EF7F613B7A1}"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D4796C-B823-47AA-8B0A-D8C7B8E438F2}"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2DBB74-6269-4DBD-BE73-B2E6864EB10B}"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5539A4-795F-49AE-A64B-00EC74A6FD05}"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9C4561-DFFB-4118-9BBC-626A58038D7A}"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7E7CC9-B7A5-4234-B6EC-1C281C33E44F}"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753F9B-65BB-4D73-9AFF-AF6E4A1B5840}"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FBC8C3-252C-498D-8F64-B318AD40A940}"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0A2C2B-BF12-4297-A4B9-6742DE199CD6}"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6EED55-B458-49D2-9D82-05D192AEE89D}"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921088-9FC2-4BC0-8A1F-F837DC90F56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50578C-D410-43BC-9A72-E333B03D11E8}"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876E3C-D71F-43CF-9F28-D84073BAB98B}"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EC70214-0DD6-4E2D-8324-F7E00E1BB30D}"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53B8F3-33A2-492A-AB50-CD002D93C060}"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94361A-4D5E-470B-ACC7-0735D9852319}"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5EF285-2897-4147-BFEE-E3629C98EBE1}"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4AB6DA-D70D-4258-B5EF-4E0435339B87}"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7D4443-551A-42D6-A4F1-A01C29B64624}"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439C2F-B6F2-45DA-B62B-5F2638ED48AB}"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1BC877-0826-4E31-899B-1D64828984C0}"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9E972C-0D7C-40C5-861A-9B8BB4FE029D}"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B146CC-98B9-4B4D-B1F5-61CC401C9D91}"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E03ED7-7A0B-4A82-8C54-B98DCCF07A2D}"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276F6A-B793-45A0-A416-C7AE75A75390}"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5A733C-E783-471E-A4FF-3CF26CCDAEFA}"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F97E75-D872-421A-B3A4-E176E70D3627}"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0468ED-35FC-4782-A8DD-8D6D14EE3556}"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79D7CA-DBF1-4AC4-A318-1F95A0DF644E}"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E5E131-3EAD-4780-BE91-02111A02E4CF}"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6BB15B-DE87-4AB0-A24B-7A6CB4AA06CC}"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7EEC65-113C-456A-AC15-5C8A130906A0}"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B37AAA-FD31-4279-B791-899FF609467F}"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662B27-F790-4DF1-8CEE-2F5C24E27132}"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855D489-2B92-4ED7-9170-85DE03E0A0C8}"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6FE9D1-05F8-45C9-A661-40F083F6E9BB}"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A48918-D817-4043-A81E-F20BB810C860}"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DF63F97-B467-4586-8823-8726EBBB2539}"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8CC06C-3BAC-4279-90BF-BB082AA8284C}"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827CB6-8F17-495A-9A1D-8669B27A0984}"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C37D96-2902-4129-8894-A88939322355}"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8004AB-5DD3-481E-9CE5-7AAED675AF27}"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A58F99-9EC2-4EF3-A316-4F9417DFB731}"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8D57B2-A8D5-49EE-B39F-2DDBF15B52BD}"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72553F-3B90-4AEA-97BE-D4F877DC55B1}"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D8ABC77-FA1F-466F-ABFB-CF467E1540E4}"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8D0359-A44E-4E99-AB41-C52266F7D3CF}"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9A5681-0AE1-4633-9544-2D98BABDF21D}"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C1B938-8CCF-415F-86E0-50708DA521B4}"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6862D4-6E39-440C-AA8E-9FBF0051E96C}"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BF1A94-7909-45AE-AD2C-B665B8D1E00B}"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2CA1AE4-ECB6-4C6B-9A67-BE186E38453E}"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D08475-1282-4EE0-9984-43101FCEB873}"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AA1C6A-23F9-43E2-AA0A-D1284DBF7CEF}"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8E7779-3F8B-42F1-BCD8-85EF43A7EF8C}"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FE2058-184B-4C73-A2DC-26E2CBF53CE4}"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AC03275-9979-4C92-9771-D8951763CB24}"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C095D3-FCD9-48EF-826C-A63353B34850}"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62C61F-AC99-43B5-B53C-F56FD4F005DE}"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5791F9-DF50-42CE-9111-4FF4B4756CD8}"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5C32AD-D999-463A-BA28-A4DC41A59CA6}"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CAD074-AFC4-4BB0-99CB-02268973499C}"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CA3C56-FDAA-4065-95D6-78870FDACE0B}"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C7A1C9C-3925-4552-8AD0-36CE336A1EE8}"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BAD367-F985-43D2-AF35-269976E958A1}"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F1E512-A051-4DC1-BFB5-E29A325E7B52}"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416CD9-6A77-4151-84DB-6784463A6DEC}"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302F5F0-4478-4878-A99D-01A9663D3495}"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D72434-A522-4B2E-9818-D358EE7A0431}"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6BDAD79-78EB-466B-9151-BDF4C7507C13}"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B4FB32-F941-40AA-AB42-B98703B5301A}"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593EC6-34FB-45F7-8437-B0195210DF3D}"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20AD8A-AEE8-4C12-9609-B8C4A6D0E3F7}"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5F736B-CFDE-43D7-B35E-C3A6D2146EB2}"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536510-6C88-457C-8739-02E10F6C2F74}"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AD5DB6-749B-4D9B-866A-7685382BA98B}"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D79670-CC51-4C55-8800-380225DA3AC3}"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B63456-0449-48C6-B635-9BE8B49E15E1}"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CC4E3C-5E5B-4101-A23A-70FD39B277DA}"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490EDC-4564-446A-87C7-336410021E52}"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9E6CAD-4F2C-4663-B027-A1FD19BEF8D4}"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03F3A8-D0FB-4F2D-8831-52C5DD7E08D3}"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E6AFE6-A444-4EEF-9EB8-60A3F1246C45}"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C19592-4417-4674-AC45-1F20B6B25103}"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542E8C-D517-40C9-B776-A7427C682139}"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3DC3D1F-0E10-4E4D-8EBC-010FB3A33AA2}"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60096B-C02C-4B5A-B6BD-689250EEBF7F}"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D712B3-E3E2-4A02-AD29-EA14D2049078}"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11A1A7-660F-4069-8E20-B506C5EA7146}"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B310A9-1403-4793-9599-03A7F5564121}"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15DA07-E7AA-4FFA-BC59-7A2FB8F48CC3}"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6F72A3-DBFB-40B9-A06D-DC49C5EA4D3A}"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C2F3AA-0499-4E77-8512-F268A2920749}"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7ECF4F-7FB0-4E10-9D65-0A037E55239F}"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66B36F-F32A-4068-BA88-08E02460E9EB}"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18580E-D068-44D6-AA53-2E8F3CDCB0E3}"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A6F705-2C29-45EE-ADA6-C10F442A0DBB}"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A74CCC-0F47-4F4C-B75E-F91265F1A70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F806BA-13CB-403C-934F-52EB1B13A66D}"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105485-73D0-4B38-A01F-F794720A4DCB}"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A9218F-5606-4211-9EDB-4335D28074E7}"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E2E544-0539-441F-995C-F27A4D704864}"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7C7290-8633-4564-AD25-76ED39AFEF6B}"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734C42-2FE0-4F93-BADB-150D13AD02F4}"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040ECB-9404-463E-A0F4-C487D3AB59C5}"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6BC880-3ED1-4432-85FD-5EF601412B52}"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E07C9B-3BB7-4737-AF48-86BE7E81139B}"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C57868-BFC0-44C4-91A5-65F153229D75}"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F064CF-3F18-4FEC-9760-499933B5822A}"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01E576-C03F-4E93-B1A9-A5FA9C67590D}"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C4095E-07A0-4FE5-B74D-92D9908484FC}"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0FABD5-2947-44B1-AC3A-9E153924C7A7}"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BEC6F1-CFFC-42B1-8F31-AAB91A4A6FC5}"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3F20C56-74FB-443A-A1CA-F231D93377B9}"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A185B6-932D-4F31-A9DB-ADF727EDEEE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E64EF3-A7F0-4D39-9CFD-4FFC2B519E2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A6C09D-8965-483B-95DA-6BD6D2149F0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C6FEE6-E1FB-45C8-ADC4-14EE181E68E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3CF094-5411-4CD4-85EA-FE9B800D075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7486E8-5B5B-43F0-A10E-C265EF7A255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5B287E6-9349-4029-A005-8362D1F8B3C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162F8A-28AF-459D-B132-95DFE6B6BEB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8C4C10-8082-490E-B0F2-28DC3D52F73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00E19A-2E03-4823-9C84-ACE2210532D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A8EB12-D9E8-4DE3-BD4C-FC8F5932A19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A32702-51BB-46EE-B0C7-B44AA52D147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CDE105-23BF-4D5F-8329-92D87C97C15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3F3933-86BF-4B52-83E3-F9EE996D309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BBFCFE-7AD4-446C-8D20-7A150D70E59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231630-2269-4A69-AF90-2354B3D6F62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9B65B5-BD53-44E6-9727-5E4BE75B7C3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68DD05-4844-4162-ACD7-2387B5DF2C6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F980B6-4A87-4AA4-8262-28CA06FE463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8392C2-1E4B-4124-A000-FFA765079E2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000BD2-1717-4C95-9977-FCE5DB33CE3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22E20E-BB72-4B3D-A47F-9B9ECEA8E78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BF093F-F262-4D82-BB37-356EB091534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1C3F24-596E-41F4-B5A5-B1E0DF30E39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9DD0EF-E698-4245-A921-E9B38DE7DCB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DB0863-9026-4A33-B78F-62E2D0E0100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A9421D-3305-4A15-9702-9FB506431DB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86294A-A10C-4C9C-892D-D44C2FCF61F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7BCCA5-7AD5-4F09-956E-DE0AD2D8723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B9BDAA-8D7B-488E-937A-B348C712F6C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007E05-C550-4223-B56A-0F678924945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75EC3E-4029-4F26-849C-1FFA695C2C4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B46CB4-8422-4D63-BB77-E31FDB091B3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86248A-B041-4664-970C-E772476F935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FE5EBB-F361-4609-B0CD-65BB83F2233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58B96A-BDF9-47F2-9423-3A274FCD35F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C0FAC8-C66A-4316-ACD7-3165D2AE6EB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285876-8295-48E1-9424-44C553A4722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7FACE5-DD54-4DA9-BF71-430EBAD5B2A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DA9A77-A022-43D3-BE0B-808F0E8DF04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D9F742-4D57-4B20-8D90-400135920A8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61C1E1-213C-4CB0-8768-EC9DF0A26C4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731D38-5E15-4A33-BDC1-58AA276ABA2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671063-34AE-459D-B190-DAC430F96FD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4A7488-B90B-4276-A4AB-BB1A91262D8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1F1A7F-20DE-4CFB-806F-670BF7C4864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7849C4-6B0B-41D6-97E4-A674A7DA731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4A615A7-BD3D-4687-9D4C-26A8EC53A42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DF62C1-002C-4D73-839D-F46F76B8412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430796-39F1-4B00-A1F6-3E5DBC3E7A4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7F67D3-F061-4710-AA51-272061D6E85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9B3054-F686-4E0D-AB2A-65B13E70145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902A49-E4F6-4CEC-92A6-E34F5614453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C7B2E1-EE15-4E58-B6F8-69F782AEDE5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F3864E-FE3D-48F6-999E-372EA581BC7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662294-E3D7-424F-A1D3-F9364AE986B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80F07F7-81DE-444B-81E1-49C997CC559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6C7C58-631C-4783-92AB-8D461D00A25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A149D7-70C3-4661-986E-0F4F8F38997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83CC46-EEF0-4E27-8D56-41EB7F0DC65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FB8F8F-A9CE-42A0-B005-D6C8B1B2B47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C670EA-4EC0-4362-81A2-2335F76A41E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7B1E88-25A9-44CF-B7F5-608E80DC103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D94079-6EA8-4553-A1DC-EBEA6B3E952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3BCE06-2DCB-41FD-98ED-FB75E9A1598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04BBE0-CFC8-4F41-9D16-6B9809AEF62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CD7BEC-17EB-43C3-B2E6-1070B0A6D8D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C43F76-D70B-48B2-919A-C2DC4A003AA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D11810-3ABE-4555-B852-A8C9FF8A69B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5DA0FB-401A-4C68-A8AE-90F633BE5B5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95D9AD-EB28-418A-BE8A-C7EF0AECB80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BCA41B2-02AD-403B-86EC-C6F475ACF79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D657B7-41E1-44AF-8689-A42DB8F414C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61E12C-9E99-47F2-A2DD-C1E08D3CFA3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82E242-7431-499E-9238-6EA37E9270A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DAF988-C4E1-4F4B-B07F-5580698C80A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6B9DED-4B46-4453-8BC8-DF624678A17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677E42-8329-4FA3-A40B-CDADA8EFA9A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DC84AC-1C01-4125-84A9-93324FB2370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C9A9DF-26D4-4546-9054-AD5264A3D4C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544310-F9D1-4F8E-A4EE-7DFC3B7973C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6FDD19-2BEF-47CA-8159-4509F1B21AB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AE482E-5B1B-4BFB-8449-5BC91D6A8D4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B003AF-6E28-457B-90E5-20FC62233D7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3860E9-613D-4DB6-A254-CF909048FD6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