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5228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6bf69"/>
                </a:solidFill>
                <a:latin typeface="Arial"/>
                <a:ea typeface="Arial"/>
              </a:rPr>
              <a:t>SunPC</a:t>
            </a:r>
            <a:r>
              <a:rPr b="0" lang="en-US" sz="4800" spc="-1" strike="noStrike" baseline="30000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4800" spc="-1" strike="noStrike">
                <a:solidFill>
                  <a:srgbClr val="f6bf69"/>
                </a:solidFill>
                <a:latin typeface="Arial"/>
                <a:ea typeface="Arial"/>
              </a:rPr>
              <a:t>-paket</a:t>
            </a:r>
            <a:br>
              <a:rPr sz="18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Kör dina MS-DOS-program på SPARC</a:t>
            </a:r>
            <a:r>
              <a:rPr b="0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04920" y="1752480"/>
            <a:ext cx="46227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t SunPC-paket med maskinvara och program är de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nabbas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ättet för SPARC-användare att köra MS-DOS-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-paket stöder också fler Microsoft Windows-program än de som finns i Wab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gramvarans certifierade l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 4.1 stöder de vanligaste nätverksprotokollen för PC, bland annat TCP/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29280" y="3057480"/>
            <a:ext cx="39574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er informatio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m SunPC, ring 512/434-1511, tryck på 2. Eller gå till World Wide Web på: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un.com/sunsoft/Products/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29280" y="4984920"/>
            <a:ext cx="3733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ör att beställ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, ring 512/434-1511, tryck på 2. Eller kontakta närmast Apple-återförsälj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29280" y="1584360"/>
            <a:ext cx="38354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BS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unPC finns bara på engelska men stöder lokaliserade versioner av MS-DOS, Microsoft Windows och progr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