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32135"/>
        <c:axId val="5849901"/>
      </c:barChart>
      <c:catAx>
        <c:axId val="92732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9901"/>
        <c:crosses val="autoZero"/>
        <c:auto val="1"/>
        <c:lblAlgn val="ctr"/>
        <c:lblOffset val="100"/>
        <c:noMultiLvlLbl val="0"/>
      </c:catAx>
      <c:valAx>
        <c:axId val="5849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32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D26-D9BB-48DB-A01F-C7BFDDD8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B64-300B-4799-84DD-8E77D696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165-EF55-4343-8CB8-42E23D18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E37-4CBA-47E7-A489-1261677A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7AF-9167-4E28-AC6B-52138CB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4CA-542A-4C76-85B3-0D15C039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017-AE31-4800-9AC1-0D5465D3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FAB-AF14-4D51-B770-20453DA8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888-146F-4BD3-A74F-7523F9A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247-3531-4A5E-9E80-947D417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D27-CBB8-4486-8E3C-ABB7E765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C06-82FF-442E-865B-C94ADAD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FECD0-5A32-46A4-9AD0-28BEEF27C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