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71197"/>
        <c:axId val="98015065"/>
      </c:barChart>
      <c:catAx>
        <c:axId val="22071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15065"/>
        <c:crosses val="autoZero"/>
        <c:auto val="1"/>
        <c:lblAlgn val="ctr"/>
        <c:lblOffset val="100"/>
        <c:noMultiLvlLbl val="0"/>
      </c:catAx>
      <c:valAx>
        <c:axId val="98015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71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3A0-698A-4C99-B653-32291EE0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B90-BCB7-4937-B60A-880C2CBB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FDC-E5B6-4AA5-98E1-627C51D5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5CA-C678-487A-A11E-F6CFF662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EB0-4163-40DC-B736-DF178271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0A3-B23B-4520-A394-84E4A80F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5BA-3E3F-40A2-A6B9-3972EE77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828-0CB7-4A18-8CA1-B9B1FCDC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4FC-3D82-4E80-BFD3-C20AD065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11B-E845-4CFA-B1A2-E5DA3BF3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338-9E4A-4BCC-9A79-4CB8EC15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82A-EBE8-42CF-B7B9-75385B91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4E349-86C5-44DE-BB4B-4D1CA53BDB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