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</p:sldIdLst>
  <p:sldSz cx="9907588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297180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3885840" y="-1440"/>
            <a:ext cx="297180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2DD4408-F78E-4FDE-BFAA-A533E2586E48}" type="datetime">
              <a:rPr b="0" i="1" lang="en-US" sz="10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789120" y="738000"/>
            <a:ext cx="5279760" cy="3654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5"/>
          </p:nvPr>
        </p:nvSpPr>
        <p:spPr>
          <a:xfrm>
            <a:off x="-360" y="9284760"/>
            <a:ext cx="2971800" cy="489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6"/>
          </p:nvPr>
        </p:nvSpPr>
        <p:spPr>
          <a:xfrm>
            <a:off x="3885840" y="9284760"/>
            <a:ext cx="2971800" cy="489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4646764-30B9-4233-97E9-BF6FC0E7F4FD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ble to all database ac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just DB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787320" y="736560"/>
            <a:ext cx="5268960" cy="364968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reenshot of the explain tool in 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e progression from last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 -&gt; 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 -&gt; prep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SQL doesn’t support placehol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he driver emulates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us prepare &amp; execute is still a gain for tight lo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it avoids the DBI handle creation overh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overhead of $dbh-&gt;ping in connect_cached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lvl="1" marL="57168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val { } is very cheap: 4.4 microseconds on a SPARC Ultra 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lvl="1" marL="57168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val { } is very cheap: 4.4 microseconds on a SPARC Ultra 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s your head spinning ye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n't worry, you don't need to know this stuff to use the DBI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I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tomicity   - all or noth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sistency - database stays consistent, no violations of constrai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solation   - each transaction executes as if done seri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urability  - once the transaction completes, the changes will persi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ID properties are implemented by concurrency controls and recovery mechanis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785880" y="760320"/>
            <a:ext cx="5276880" cy="365292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atabase logical design and physical imple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e always first priority, but beyond our scope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pplication part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ork close to the data - actually inside the database is b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ored proced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y benefits where they are applic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anguage often painfully limited compared with Per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ving data is expensive -bandwidth (bulk) and latency (iterat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ulk-load - use proprietary tools for maximum spe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you can use perl to massage the data into the right 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bulk-load tools often have limited function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se DBI for maximum flexibility, such as update-else-in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83004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436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48572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83004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436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5B41-036D-4AD9-8616-9831CB5DE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ACE7-4136-4D95-8064-714BF6CFD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F3B4-4CDC-4D3C-8D40-AD3904D32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4461-5469-40F3-BD06-056573232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14F7-7854-4518-BD2D-60DB50FF4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42680" y="205704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56F0-724E-451C-8240-B1BAC2C9A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C043-0C0B-401A-9514-94F9B4D45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5AA4-A420-4F22-B6FB-E7E156F61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1944-60A5-406B-95D8-679681F12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A88F-C046-46D4-A2D5-8688E8497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7DE5-95A2-40AF-A815-EC60A422A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83004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7436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48572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83004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7436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71A0-4C14-412A-B501-ED2E005B5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42680" y="205704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903960" cy="152280"/>
            <a:chOff x="0" y="1428840"/>
            <a:chExt cx="990396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90396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90396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9109800" y="6408360"/>
            <a:ext cx="995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7549C-B2BF-4CBF-A14A-CA6F709B082C}" type="slidenum">
              <a:rPr b="0" i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254720" y="0"/>
            <a:ext cx="2651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cccc"/>
                </a:solidFill>
                <a:latin typeface="Arial"/>
              </a:rPr>
              <a:t>Advanced DBI </a:t>
            </a:r>
            <a:r>
              <a:rPr b="0" lang="en-GB" sz="700" spc="-1" strike="noStrike">
                <a:solidFill>
                  <a:srgbClr val="00cccc"/>
                </a:solidFill>
                <a:latin typeface="Arial"/>
              </a:rPr>
              <a:t>tutorial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cccc"/>
                </a:solidFill>
                <a:latin typeface="Arial"/>
              </a:rPr>
              <a:t>© Tim Bunc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cccc"/>
                </a:solidFill>
                <a:latin typeface="Arial"/>
              </a:rPr>
              <a:t>July 2000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E9016-3EFB-4803-942F-0EE005E68B9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680" y="3276720"/>
            <a:ext cx="9899280" cy="152280"/>
            <a:chOff x="4680" y="3276720"/>
            <a:chExt cx="9899280" cy="152280"/>
          </a:xfrm>
        </p:grpSpPr>
        <p:sp>
          <p:nvSpPr>
            <p:cNvPr id="48" name=""/>
            <p:cNvSpPr/>
            <p:nvPr/>
          </p:nvSpPr>
          <p:spPr>
            <a:xfrm>
              <a:off x="4680" y="3276720"/>
              <a:ext cx="989928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680" y="3390840"/>
              <a:ext cx="989928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hyperlink" Target="http://www.symbolstone.org/technology/perl/DBI" TargetMode="External"/><Relationship Id="rId2" Type="http://schemas.openxmlformats.org/officeDocument/2006/relationships/hyperlink" Target="http://www.isc.org/dbi-lists.html" TargetMode="External"/><Relationship Id="rId3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Advanced DBI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66"/>
                </a:solidFill>
                <a:latin typeface="Times New Roman"/>
              </a:rPr>
              <a:t>Perl Conference 4.0 Tutor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66"/>
                </a:solidFill>
                <a:latin typeface="Times New Roman"/>
              </a:rPr>
              <a:t>July 2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ff"/>
                </a:solidFill>
                <a:latin typeface="Arial"/>
              </a:rPr>
              <a:t>Tim Bu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best laid pla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7320" y="1980720"/>
            <a:ext cx="9410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Query optimisation is h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telligent high quality cost based query optimisation is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really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hard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now your optimis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acle, Informix, Sybase, DB2, SQL Server etc. all slightly differen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heck what it's do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 tools to see the plans used for your queries - very helpfu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elp it alo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ost 'big name' databases have a mechanism to analyse and store the key distributions of indices to help the optimiser make good pla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st important for tables with ‘skewed’ key distribu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ware: keep it fresh, old key distributions might be worse than no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also allow you to embed 'hints' into the SQL as com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ware: take it easy, over hinting hinders dynamic optimis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 rot="673200">
            <a:off x="5780160" y="193680"/>
            <a:ext cx="809640" cy="51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263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ccess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48480" y="1143000"/>
            <a:ext cx="247680" cy="241200"/>
          </a:xfrm>
          <a:custGeom>
            <a:avLst/>
            <a:gdLst/>
            <a:ahLst/>
            <a:rect l="l" t="t" r="r" b="b"/>
            <a:pathLst>
              <a:path w="144" h="152">
                <a:moveTo>
                  <a:pt x="0" y="152"/>
                </a:moveTo>
                <a:cubicBezTo>
                  <a:pt x="36" y="84"/>
                  <a:pt x="72" y="16"/>
                  <a:pt x="96" y="8"/>
                </a:cubicBezTo>
                <a:cubicBezTo>
                  <a:pt x="120" y="0"/>
                  <a:pt x="136" y="88"/>
                  <a:pt x="144" y="104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ySQL’s EXPLAIN PLA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2883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generate a pla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66"/>
                </a:solidFill>
                <a:latin typeface="Courier New"/>
              </a:rPr>
              <a:t>     </a:t>
            </a:r>
            <a:r>
              <a:rPr b="0" lang="en-US" sz="1000" spc="-1" strike="noStrike">
                <a:solidFill>
                  <a:srgbClr val="ffff66"/>
                </a:solidFill>
                <a:latin typeface="Courier New"/>
              </a:rPr>
              <a:t>EXPLAI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SELECT tt.TicketNumber, tt.TimeIn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ProjectReference, tt.EstimatedShipDate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ActualShipDate, tt.ClientID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ServiceCodes, tt.RepetitiveID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CurrentProcess, tt.CurrentDPPerson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RecordVolume, tt.DPPrinted, et.COUNTRY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et_1.COUNTRY, do.CUSTNAME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FROM tt, et, et AS et_1, d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WHERE tt.SubmitTime IS NU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tt.ActualPC = et.EMPLOYI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tt.AssignedPC = et_1.EMPLOYI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tt.ClientID = do.CUSTNMBR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spcAft>
                <a:spcPts val="4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plan is described as results like this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TABLE TYPE   POSSIBLE_KEYS                KEY      KEY_LEN REF            ROWS     EXTR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et    ALL    PRIMARY                      NULL     NULL    NULL           7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    ref    AssignedPC,ClientID,ActualPC ActualPC 15      et.EMPLOYID    52       where us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et_1  eq_ref PRIMARY                      PRIMARY  15      tt.AssignedPC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do    eq_ref PRIMARY                      PRIMARY  15      tt.ClientID  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Oracle’s EXPLAIN PLA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generate a pla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EXPLAIN PLAN SET STATEMENT_ID = 'Emp_Sal’ FOR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SELECT ename, job, sal, dnam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FROM emp, dep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WHERE emp.deptno = dept.deptn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NOT EXIS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(SELECT * FROM salgra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WHERE emp.sal BETWEEN losal AND hisal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spcAft>
                <a:spcPts val="4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at writes plan details into a table which can be queried to yield results like this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ID  PAR Query Pl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--- --- -------------------------------------------------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0     Select Statement   Cost = 6960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   0   Nested Loop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   1     Nested Loop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3   2       Merge Jo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4   3         Sort Jo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5   4           Table Access Full T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6   3         Sort Jo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7   6           Table Access Full T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8   2       Index Unique Scan T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9   1     Table Access Full T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explain-0_4beta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11887200" cy="857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hanging plans (hint hint)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database systems provide some way to influence the execution plan - typically via ‘hints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acle supports a very large and complex range of hi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nts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mus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e contained within comments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/*</a:t>
            </a:r>
            <a:r>
              <a:rPr b="1" lang="en-US" sz="2000" spc="-1" strike="noStrike">
                <a:solidFill>
                  <a:srgbClr val="ffff66"/>
                </a:solidFill>
                <a:latin typeface="Courier New"/>
              </a:rPr>
              <a:t>+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… *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SELECT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/*</a:t>
            </a:r>
            <a:r>
              <a:rPr b="1" lang="en-US" sz="1400" spc="-1" strike="noStrike">
                <a:solidFill>
                  <a:srgbClr val="ffff66"/>
                </a:solidFill>
                <a:latin typeface="Courier New"/>
              </a:rPr>
              <a:t>+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 INDEX(table1 index1) */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foo, b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FROM table1 WHERE key1=1 AND key2=2 AND key3=3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ySQL has a very limited set of hi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nts can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ptionall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e placed inside comments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/*</a:t>
            </a:r>
            <a:r>
              <a:rPr b="1" lang="en-US" sz="2000" spc="-1" strike="noStrike">
                <a:solidFill>
                  <a:srgbClr val="ffff66"/>
                </a:solidFill>
                <a:latin typeface="Courier New"/>
              </a:rPr>
              <a:t>!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… *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SELECT foo, bar FROM table1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/*</a:t>
            </a:r>
            <a:r>
              <a:rPr b="1" lang="en-US" sz="1400" spc="-1" strike="noStrike">
                <a:solidFill>
                  <a:srgbClr val="ffff66"/>
                </a:solidFill>
                <a:latin typeface="Courier New"/>
              </a:rPr>
              <a:t>!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 USE INDEX (key1,key2) *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WHERE key1=1 AND key2=2 AND key3=3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Respect your server's SQL cach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89978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ptimised Access Plan etc. is cached within the ser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keyed by the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exa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original SQL string us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mpar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do("insert … $id"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ith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do("insert … ?", undef, $id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ithout placeholders, SQL string varies each 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cached one is not reus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time is wasted creating a new access pl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new statement and access plan are added to cach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the cache fills and other statements get pushed ou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n a busy system this can lead to ‘thrashing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ot handl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60240" y="1980720"/>
            <a:ext cx="8994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void us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do(…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n a speed-critical loop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 = $dbh-&gt;prepare(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-&gt;execute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nstea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gets a handle on the statement in the SQL cache and keeps it the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ing the handle for the pre-prepared statement avoids a round-trip to server for SQL cache-check / parsing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example, convert loop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do("insert … ?", undef, $i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o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("insert … ?"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looped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execute($i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is often gives a significant performance boo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ummary (so far)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nk about the big picture fir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titioning, choice of tools et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udy and tune the access plans for your state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ach your database about your key distribu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 placehold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specially for any statements that vary and will be executed of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ace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o(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n a loo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repare(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efore the loop and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execute(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ithin 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ually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 drivers don’t support placehold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times queries using placeholders are slow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cause access plan has to be more gener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Let the DBI cache your handl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ometimes it's not easy to hold all your hand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.g., library code to lookup values from the datab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 prepare_cached(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method gives you a client side statement handle cach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sub lookup_foo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($dbh, $id) = @_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</a:t>
            </a:r>
            <a:r>
              <a:rPr b="0" lang="en-GB" sz="1600" spc="-1" strike="noStrike">
                <a:solidFill>
                  <a:srgbClr val="ffff66"/>
                </a:solidFill>
                <a:latin typeface="Courier New"/>
              </a:rPr>
              <a:t>prepare_cached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("select foo from table where 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return $dbh-&gt;</a:t>
            </a:r>
            <a:r>
              <a:rPr b="0" lang="en-GB" sz="1600" spc="-1" strike="noStrike">
                <a:solidFill>
                  <a:srgbClr val="ffff66"/>
                </a:solidFill>
                <a:latin typeface="Courier New"/>
              </a:rPr>
              <a:t>selectrow_array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($sth, $i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n avoid the need for global statement handle vari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Another </a:t>
            </a:r>
            <a:r>
              <a:rPr b="0" lang="en-GB" sz="4000" spc="-1" strike="noStrike">
                <a:solidFill>
                  <a:srgbClr val="00cccc"/>
                </a:solidFill>
                <a:latin typeface="Courier New"/>
              </a:rPr>
              <a:t>prepare_cached()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andy for dynamically constructed statement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while ( ($field, $value) = each %search_fields 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push @sql,   "$field = ?"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push @values, $valu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where = ""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where = "where ".join(" and ", @sql) if @sql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prepare_cached("select * from table $where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-&gt;execute(@values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opical Topic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peed Speed Speed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rror Checking and 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eels within Whee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nsa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BI for the We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ain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andling LONG/BLOB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rt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Power of the Prox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lexing the Multiple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Keep a handle on your databas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nnecting to a database can be sl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y to connect once and stay connected where practi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e'll discuss web server issues la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connect_cached(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meth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cts lik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_cached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but for database hand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t also checks the connection and reconnects if it's brok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ik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_cached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, it’s most handy for library 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imilar, but not quite the same as Apache::DB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ew and subject to change with experi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otentially most useful with DBD::Proxy &amp; DBI::Proxy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orks well combined with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_cache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A </a:t>
            </a:r>
            <a:r>
              <a:rPr b="0" lang="en-GB" sz="4000" spc="-1" strike="noStrike">
                <a:solidFill>
                  <a:srgbClr val="00cccc"/>
                </a:solidFill>
                <a:latin typeface="Courier New"/>
              </a:rPr>
              <a:t>connect_cached()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are and contrast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$dbh = DBI-&gt;connect(…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sub lookup_foo1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($id) = @_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prepare_cached("select foo from table where 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return $dbh-&gt;selectrow_array($sth, $i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i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sub lookup_foo2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($id) = @_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$dbh = DBI-&gt;connect_cached(…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prepare_cached("select foo from table where 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return $dbh-&gt;selectrow_array($sth, $i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ling less for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@row = $sth-&gt;fetchrow_array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3,1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1,0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$row = $sth-&gt;fetchrow_arrayref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5,3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4,000 fetches per cpu seco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made on an old SPARC 10 using DBD::Orac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assume instant record fetch within dri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elds all just one char.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@row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ould be even slower for more/bigger fiel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bind_columns(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or direc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ccess to fetched fiel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Error Checking &amp; Error Handl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o err is human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o detect, divin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importance of error check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rrors happen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ailure happens when you don't expect error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atabase crash / network disconn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ack of disk space for insert or select (sort space for order b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erver math error on select (divide by zero after 10,000 row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maybe, just maybe, errors in your own code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Gasp!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eat failure by expecting error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etect errors early to limit effe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efensive Programming, e.g., check assump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rough Programming, e.g., check for errors after fetch loo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Error checking - ways and mea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rror checking the hard way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 || die "DBI method failed: $DBI::errstr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 || die "DBI method failed: $DBI::errstr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 || die "DBI method failed: $DBI::errstr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rror checking the smart way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{RaiseError} = 1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andling errors the smart wa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ett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RaiseError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make the DBI call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di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for yo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simple applications immediate death on error is f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error message is usually accurate and detailed enoug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tter than the error messages some developers use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more advanced applications greater control is needed, perhap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rrect the problem and ret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, Fail that chunk of work and move on to anoth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, Log error and clean up before a graceful ex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, whatever else to need to 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uzzwords: Need to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catch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he error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exception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being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thrown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by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Raise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andling errors the smart wa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ife after death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h-&gt;{RaiseError} = 1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eval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foo(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h-&gt;method;  # fails so the DBI calls d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bar($h);     # may also call DBI method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if ($@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... handle the error here 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onus priz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ther, non-DBI, code within the eval block may also raise an exception that will be caught and handled clean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heels within Wheel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he DBI architec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and how to watch it at wor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Setting the scen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ner and outer worl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pplication and Driv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ner and outer hand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BI handles are references to tied hash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DBI Method Dispatc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ateway between the worlds and the heart of the DB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Now we'll go all deep and visual for a whil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’s it all abou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1789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defines and implements an interface to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ug-in driver modules do the database-specific 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provides default methods, functions, tools etc  for dri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limited to the lowest common denomina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igned and built for spe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werful automatic error checking built-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uable detailed call tracing/debugging built-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118120" y="1752480"/>
            <a:ext cx="0" cy="487692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158360" y="1752480"/>
            <a:ext cx="7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5283360" y="3876480"/>
            <a:ext cx="3631320" cy="1219320"/>
            <a:chOff x="5283360" y="3876480"/>
            <a:chExt cx="3631320" cy="1219320"/>
          </a:xfrm>
        </p:grpSpPr>
        <p:sp>
          <p:nvSpPr>
            <p:cNvPr id="194" name=""/>
            <p:cNvSpPr/>
            <p:nvPr/>
          </p:nvSpPr>
          <p:spPr>
            <a:xfrm>
              <a:off x="528336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407920" y="464832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52140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647760" y="464832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75944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883280" y="464832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00" name=""/>
            <p:cNvCxnSpPr>
              <a:stCxn id="194" idx="0"/>
              <a:endCxn id="201" idx="2"/>
            </p:cNvCxnSpPr>
            <p:nvPr/>
          </p:nvCxnSpPr>
          <p:spPr>
            <a:xfrm flipV="1">
              <a:off x="5860440" y="3876480"/>
              <a:ext cx="24804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02" name=""/>
            <p:cNvCxnSpPr>
              <a:stCxn id="196" idx="0"/>
              <a:endCxn id="203" idx="2"/>
            </p:cNvCxnSpPr>
            <p:nvPr/>
          </p:nvCxnSpPr>
          <p:spPr>
            <a:xfrm flipV="1">
              <a:off x="7098480" y="3876480"/>
              <a:ext cx="24804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04" name=""/>
            <p:cNvCxnSpPr>
              <a:stCxn id="198" idx="0"/>
              <a:endCxn id="205" idx="2"/>
            </p:cNvCxnSpPr>
            <p:nvPr/>
          </p:nvCxnSpPr>
          <p:spPr>
            <a:xfrm flipV="1">
              <a:off x="8336880" y="3876480"/>
              <a:ext cx="24804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</p:grpSp>
      <p:sp>
        <p:nvSpPr>
          <p:cNvPr id="206" name=""/>
          <p:cNvSpPr/>
          <p:nvPr/>
        </p:nvSpPr>
        <p:spPr>
          <a:xfrm flipH="1">
            <a:off x="4209840" y="2057400"/>
            <a:ext cx="74268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47680" y="3809880"/>
            <a:ext cx="743040" cy="524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79080" y="388620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1073160" y="4572000"/>
            <a:ext cx="1155240" cy="523800"/>
            <a:chOff x="1073160" y="4572000"/>
            <a:chExt cx="1155240" cy="523800"/>
          </a:xfrm>
        </p:grpSpPr>
        <p:sp>
          <p:nvSpPr>
            <p:cNvPr id="210" name=""/>
            <p:cNvSpPr/>
            <p:nvPr/>
          </p:nvSpPr>
          <p:spPr>
            <a:xfrm>
              <a:off x="107316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199520" y="4647960"/>
              <a:ext cx="73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2311560" y="4572000"/>
            <a:ext cx="1155240" cy="523800"/>
            <a:chOff x="2311560" y="4572000"/>
            <a:chExt cx="1155240" cy="523800"/>
          </a:xfrm>
        </p:grpSpPr>
        <p:sp>
          <p:nvSpPr>
            <p:cNvPr id="213" name=""/>
            <p:cNvSpPr/>
            <p:nvPr/>
          </p:nvSpPr>
          <p:spPr>
            <a:xfrm>
              <a:off x="231156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439360" y="4647960"/>
              <a:ext cx="77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3549600" y="4572000"/>
            <a:ext cx="1155240" cy="523800"/>
            <a:chOff x="3549600" y="4572000"/>
            <a:chExt cx="1155240" cy="523800"/>
          </a:xfrm>
        </p:grpSpPr>
        <p:sp>
          <p:nvSpPr>
            <p:cNvPr id="216" name=""/>
            <p:cNvSpPr/>
            <p:nvPr/>
          </p:nvSpPr>
          <p:spPr>
            <a:xfrm>
              <a:off x="354960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674160" y="4647960"/>
              <a:ext cx="71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1124280" y="5334120"/>
            <a:ext cx="3501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 handle classes visible to application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se classes are effectively ‘empty’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5394240" y="3876480"/>
            <a:ext cx="4471560" cy="2526480"/>
            <a:chOff x="5394240" y="3876480"/>
            <a:chExt cx="4471560" cy="2526480"/>
          </a:xfrm>
        </p:grpSpPr>
        <p:sp>
          <p:nvSpPr>
            <p:cNvPr id="220" name=""/>
            <p:cNvSpPr/>
            <p:nvPr/>
          </p:nvSpPr>
          <p:spPr>
            <a:xfrm>
              <a:off x="6233760" y="5334120"/>
              <a:ext cx="115560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315480" y="541008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471800" y="5334120"/>
              <a:ext cx="115560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56040" y="541008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710200" y="5334120"/>
              <a:ext cx="115560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790840" y="541008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26" name=""/>
            <p:cNvCxnSpPr>
              <a:stCxn id="220" idx="0"/>
              <a:endCxn id="201" idx="2"/>
            </p:cNvCxnSpPr>
            <p:nvPr/>
          </p:nvCxnSpPr>
          <p:spPr>
            <a:xfrm flipH="1" flipV="1">
              <a:off x="6107760" y="3876480"/>
              <a:ext cx="704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27" name=""/>
            <p:cNvCxnSpPr>
              <a:stCxn id="222" idx="0"/>
              <a:endCxn id="203" idx="2"/>
            </p:cNvCxnSpPr>
            <p:nvPr/>
          </p:nvCxnSpPr>
          <p:spPr>
            <a:xfrm flipH="1" flipV="1">
              <a:off x="7345800" y="3876480"/>
              <a:ext cx="704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28" name=""/>
            <p:cNvCxnSpPr>
              <a:stCxn id="224" idx="0"/>
              <a:endCxn id="205" idx="2"/>
            </p:cNvCxnSpPr>
            <p:nvPr/>
          </p:nvCxnSpPr>
          <p:spPr>
            <a:xfrm flipH="1" flipV="1">
              <a:off x="8584200" y="3876480"/>
              <a:ext cx="704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sp>
          <p:nvSpPr>
            <p:cNvPr id="229" name=""/>
            <p:cNvSpPr/>
            <p:nvPr/>
          </p:nvSpPr>
          <p:spPr>
            <a:xfrm>
              <a:off x="5394240" y="6095880"/>
              <a:ext cx="395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arallel handle classes implemented by driver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5283360" y="1752480"/>
            <a:ext cx="4568400" cy="2124360"/>
            <a:chOff x="5283360" y="1752480"/>
            <a:chExt cx="4568400" cy="2124360"/>
          </a:xfrm>
        </p:grpSpPr>
        <p:grpSp>
          <p:nvGrpSpPr>
            <p:cNvPr id="231" name=""/>
            <p:cNvGrpSpPr/>
            <p:nvPr/>
          </p:nvGrpSpPr>
          <p:grpSpPr>
            <a:xfrm>
              <a:off x="6108120" y="2133720"/>
              <a:ext cx="2476080" cy="1218600"/>
              <a:chOff x="6108120" y="2133720"/>
              <a:chExt cx="2476080" cy="1218600"/>
            </a:xfrm>
          </p:grpSpPr>
          <p:sp>
            <p:nvSpPr>
              <p:cNvPr id="232" name=""/>
              <p:cNvSpPr/>
              <p:nvPr/>
            </p:nvSpPr>
            <p:spPr>
              <a:xfrm>
                <a:off x="6583320" y="2209680"/>
                <a:ext cx="1538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D::_::commo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6438600" y="2133720"/>
                <a:ext cx="1733400" cy="52380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34" name=""/>
              <p:cNvCxnSpPr>
                <a:stCxn id="201" idx="0"/>
                <a:endCxn id="233" idx="2"/>
              </p:cNvCxnSpPr>
              <p:nvPr/>
            </p:nvCxnSpPr>
            <p:spPr>
              <a:xfrm flipV="1">
                <a:off x="6108120" y="2657160"/>
                <a:ext cx="119736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35" name=""/>
              <p:cNvCxnSpPr>
                <a:stCxn id="203" idx="0"/>
                <a:endCxn id="233" idx="2"/>
              </p:cNvCxnSpPr>
              <p:nvPr/>
            </p:nvCxnSpPr>
            <p:spPr>
              <a:xfrm flipH="1" flipV="1">
                <a:off x="7304760" y="2657160"/>
                <a:ext cx="4140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36" name=""/>
              <p:cNvCxnSpPr>
                <a:stCxn id="205" idx="0"/>
                <a:endCxn id="233" idx="2"/>
              </p:cNvCxnSpPr>
              <p:nvPr/>
            </p:nvCxnSpPr>
            <p:spPr>
              <a:xfrm flipH="1" flipV="1">
                <a:off x="7304760" y="2657160"/>
                <a:ext cx="127980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</p:grpSp>
        <p:grpSp>
          <p:nvGrpSpPr>
            <p:cNvPr id="237" name=""/>
            <p:cNvGrpSpPr/>
            <p:nvPr/>
          </p:nvGrpSpPr>
          <p:grpSpPr>
            <a:xfrm>
              <a:off x="5283360" y="1752480"/>
              <a:ext cx="3880080" cy="2124360"/>
              <a:chOff x="5283360" y="1752480"/>
              <a:chExt cx="3880080" cy="2124360"/>
            </a:xfrm>
          </p:grpSpPr>
          <p:grpSp>
            <p:nvGrpSpPr>
              <p:cNvPr id="238" name=""/>
              <p:cNvGrpSpPr/>
              <p:nvPr/>
            </p:nvGrpSpPr>
            <p:grpSpPr>
              <a:xfrm>
                <a:off x="5530680" y="3352680"/>
                <a:ext cx="1154880" cy="524160"/>
                <a:chOff x="5530680" y="3352680"/>
                <a:chExt cx="1154880" cy="52416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5530680" y="3352680"/>
                  <a:ext cx="115488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5667480" y="3429000"/>
                  <a:ext cx="1014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r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" name=""/>
              <p:cNvGrpSpPr/>
              <p:nvPr/>
            </p:nvGrpSpPr>
            <p:grpSpPr>
              <a:xfrm>
                <a:off x="6769080" y="3352680"/>
                <a:ext cx="1192680" cy="524160"/>
                <a:chOff x="6769080" y="3352680"/>
                <a:chExt cx="1192680" cy="52416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6769080" y="3352680"/>
                  <a:ext cx="115596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6907680" y="3429000"/>
                  <a:ext cx="1054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b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" name=""/>
              <p:cNvGrpSpPr/>
              <p:nvPr/>
            </p:nvGrpSpPr>
            <p:grpSpPr>
              <a:xfrm>
                <a:off x="8007120" y="3352680"/>
                <a:ext cx="1156320" cy="524160"/>
                <a:chOff x="8007120" y="3352680"/>
                <a:chExt cx="1156320" cy="52416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8007120" y="3352680"/>
                  <a:ext cx="115632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8143560" y="3429000"/>
                  <a:ext cx="996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st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5314320" y="175248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283360" y="2057400"/>
                <a:ext cx="74268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46" name=""/>
            <p:cNvSpPr/>
            <p:nvPr/>
          </p:nvSpPr>
          <p:spPr>
            <a:xfrm>
              <a:off x="8616600" y="2068560"/>
              <a:ext cx="12351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ase class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vid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allbac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ehavior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4044240" y="1752480"/>
            <a:ext cx="1899360" cy="4193280"/>
            <a:chOff x="4044240" y="1752480"/>
            <a:chExt cx="1899360" cy="4193280"/>
          </a:xfrm>
        </p:grpSpPr>
        <p:cxnSp>
          <p:nvCxnSpPr>
            <p:cNvPr id="249" name=""/>
            <p:cNvCxnSpPr>
              <a:stCxn id="250" idx="1"/>
              <a:endCxn id="251" idx="3"/>
            </p:cNvCxnSpPr>
            <p:nvPr/>
          </p:nvCxnSpPr>
          <p:spPr>
            <a:xfrm flipH="1">
              <a:off x="4050720" y="2361960"/>
              <a:ext cx="81972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2" name=""/>
            <p:cNvCxnSpPr/>
            <p:nvPr/>
          </p:nvCxnSpPr>
          <p:spPr>
            <a:xfrm flipV="1">
              <a:off x="4051080" y="3276000"/>
              <a:ext cx="8197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3" name=""/>
            <p:cNvCxnSpPr/>
            <p:nvPr/>
          </p:nvCxnSpPr>
          <p:spPr>
            <a:xfrm flipV="1">
              <a:off x="4051080" y="2601360"/>
              <a:ext cx="802440" cy="1284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4" name=""/>
            <p:cNvCxnSpPr>
              <a:stCxn id="251" idx="3"/>
              <a:endCxn id="255" idx="1"/>
            </p:cNvCxnSpPr>
            <p:nvPr/>
          </p:nvCxnSpPr>
          <p:spPr>
            <a:xfrm flipV="1">
              <a:off x="4051080" y="2818800"/>
              <a:ext cx="81972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6" name=""/>
            <p:cNvCxnSpPr>
              <a:stCxn id="251" idx="3"/>
              <a:endCxn id="257" idx="1"/>
            </p:cNvCxnSpPr>
            <p:nvPr/>
          </p:nvCxnSpPr>
          <p:spPr>
            <a:xfrm flipV="1">
              <a:off x="4051080" y="3058560"/>
              <a:ext cx="802440" cy="8276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8" name=""/>
            <p:cNvCxnSpPr>
              <a:stCxn id="251" idx="3"/>
              <a:endCxn id="259" idx="1"/>
            </p:cNvCxnSpPr>
            <p:nvPr/>
          </p:nvCxnSpPr>
          <p:spPr>
            <a:xfrm flipV="1">
              <a:off x="4051080" y="2144160"/>
              <a:ext cx="802440" cy="17420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59" name=""/>
            <p:cNvSpPr/>
            <p:nvPr/>
          </p:nvSpPr>
          <p:spPr>
            <a:xfrm>
              <a:off x="4852800" y="199224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870080" y="22096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870080" y="26668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852800" y="290664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/>
            <p:nvPr/>
          </p:nvCxnSpPr>
          <p:spPr>
            <a:xfrm flipH="1" flipV="1">
              <a:off x="4044240" y="3961800"/>
              <a:ext cx="82620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1" name=""/>
            <p:cNvCxnSpPr/>
            <p:nvPr/>
          </p:nvCxnSpPr>
          <p:spPr>
            <a:xfrm>
              <a:off x="4044600" y="3962160"/>
              <a:ext cx="82620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2" name=""/>
            <p:cNvCxnSpPr>
              <a:stCxn id="263" idx="0"/>
              <a:endCxn id="264" idx="1"/>
            </p:cNvCxnSpPr>
            <p:nvPr/>
          </p:nvCxnSpPr>
          <p:spPr>
            <a:xfrm>
              <a:off x="4044600" y="3962160"/>
              <a:ext cx="808920" cy="849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5" name=""/>
            <p:cNvCxnSpPr>
              <a:stCxn id="263" idx="1"/>
              <a:endCxn id="266" idx="1"/>
            </p:cNvCxnSpPr>
            <p:nvPr/>
          </p:nvCxnSpPr>
          <p:spPr>
            <a:xfrm>
              <a:off x="4044600" y="3962160"/>
              <a:ext cx="82620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7" name=""/>
            <p:cNvCxnSpPr/>
            <p:nvPr/>
          </p:nvCxnSpPr>
          <p:spPr>
            <a:xfrm>
              <a:off x="4044600" y="3962160"/>
              <a:ext cx="808920" cy="13071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8" name=""/>
            <p:cNvCxnSpPr>
              <a:stCxn id="263" idx="1"/>
              <a:endCxn id="269" idx="1"/>
            </p:cNvCxnSpPr>
            <p:nvPr/>
          </p:nvCxnSpPr>
          <p:spPr>
            <a:xfrm>
              <a:off x="4044600" y="3962160"/>
              <a:ext cx="808920" cy="3927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69" name=""/>
            <p:cNvSpPr/>
            <p:nvPr/>
          </p:nvSpPr>
          <p:spPr>
            <a:xfrm>
              <a:off x="4852800" y="42022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852800" y="46594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870080" y="487692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540320" y="1752480"/>
              <a:ext cx="1403280" cy="1905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540320" y="4038480"/>
              <a:ext cx="1403280" cy="1905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541400" y="17524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541400" y="56386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952880" y="259092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952880" y="457200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952880" y="525780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952880" y="327672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952880" y="548640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165240" y="6858000"/>
            <a:ext cx="1320840" cy="0"/>
          </a:xfrm>
          <a:prstGeom prst="line">
            <a:avLst/>
          </a:prstGeom>
          <a:ln w="19080">
            <a:solidFill>
              <a:srgbClr val="003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1486080" y="6095880"/>
            <a:ext cx="6190920" cy="764280"/>
            <a:chOff x="1486080" y="6095880"/>
            <a:chExt cx="6190920" cy="764280"/>
          </a:xfrm>
        </p:grpSpPr>
        <p:sp>
          <p:nvSpPr>
            <p:cNvPr id="281" name=""/>
            <p:cNvSpPr/>
            <p:nvPr/>
          </p:nvSpPr>
          <p:spPr>
            <a:xfrm>
              <a:off x="4457880" y="6095880"/>
              <a:ext cx="321912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540320" y="6248520"/>
              <a:ext cx="1403280" cy="60948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541040" y="6248520"/>
              <a:ext cx="108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33"/>
                  </a:solidFill>
                  <a:latin typeface="Arial"/>
                </a:rPr>
                <a:t>DBD::A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540320" y="6858000"/>
              <a:ext cx="1403280" cy="0"/>
            </a:xfrm>
            <a:prstGeom prst="line">
              <a:avLst/>
            </a:prstGeom>
            <a:ln w="19080">
              <a:solidFill>
                <a:srgbClr val="00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852800" y="64882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7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86" name=""/>
            <p:cNvGrpSpPr/>
            <p:nvPr/>
          </p:nvGrpSpPr>
          <p:grpSpPr>
            <a:xfrm>
              <a:off x="1486080" y="6248520"/>
              <a:ext cx="1567800" cy="611640"/>
              <a:chOff x="1486080" y="6248520"/>
              <a:chExt cx="1567800" cy="611640"/>
            </a:xfrm>
          </p:grpSpPr>
          <p:sp>
            <p:nvSpPr>
              <p:cNvPr id="287" name=""/>
              <p:cNvSpPr/>
              <p:nvPr/>
            </p:nvSpPr>
            <p:spPr>
              <a:xfrm>
                <a:off x="2063520" y="655308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7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981080" y="6248520"/>
                <a:ext cx="1072800" cy="60948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981080" y="6248520"/>
                <a:ext cx="764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486080" y="670572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981080" y="6858000"/>
                <a:ext cx="107280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2" name=""/>
          <p:cNvGrpSpPr/>
          <p:nvPr/>
        </p:nvGrpSpPr>
        <p:grpSpPr>
          <a:xfrm>
            <a:off x="165240" y="1676520"/>
            <a:ext cx="3335400" cy="5181480"/>
            <a:chOff x="165240" y="1676520"/>
            <a:chExt cx="3335400" cy="5181480"/>
          </a:xfrm>
        </p:grpSpPr>
        <p:sp>
          <p:nvSpPr>
            <p:cNvPr id="293" name=""/>
            <p:cNvSpPr/>
            <p:nvPr/>
          </p:nvSpPr>
          <p:spPr>
            <a:xfrm>
              <a:off x="165240" y="1752480"/>
              <a:ext cx="1320480" cy="51055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kes call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o method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sing DBI hand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bject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4" name=""/>
            <p:cNvGrpSpPr/>
            <p:nvPr/>
          </p:nvGrpSpPr>
          <p:grpSpPr>
            <a:xfrm>
              <a:off x="1485720" y="2895480"/>
              <a:ext cx="1650240" cy="1981440"/>
              <a:chOff x="1485720" y="2895480"/>
              <a:chExt cx="1650240" cy="1981440"/>
            </a:xfrm>
          </p:grpSpPr>
          <p:cxnSp>
            <p:nvCxnSpPr>
              <p:cNvPr id="295" name=""/>
              <p:cNvCxnSpPr>
                <a:stCxn id="296" idx="3"/>
                <a:endCxn id="251" idx="1"/>
              </p:cNvCxnSpPr>
              <p:nvPr/>
            </p:nvCxnSpPr>
            <p:spPr>
              <a:xfrm>
                <a:off x="2903760" y="3363480"/>
                <a:ext cx="232560" cy="5230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97" name=""/>
              <p:cNvCxnSpPr>
                <a:stCxn id="251" idx="1"/>
                <a:endCxn id="298" idx="3"/>
              </p:cNvCxnSpPr>
              <p:nvPr/>
            </p:nvCxnSpPr>
            <p:spPr>
              <a:xfrm flipH="1" flipV="1">
                <a:off x="2903400" y="3820680"/>
                <a:ext cx="232560" cy="6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99" name=""/>
              <p:cNvCxnSpPr>
                <a:stCxn id="251" idx="1"/>
                <a:endCxn id="300" idx="3"/>
              </p:cNvCxnSpPr>
              <p:nvPr/>
            </p:nvCxnSpPr>
            <p:spPr>
              <a:xfrm flipH="1">
                <a:off x="2901960" y="3885840"/>
                <a:ext cx="234000" cy="1530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01" name=""/>
              <p:cNvCxnSpPr>
                <a:stCxn id="251" idx="1"/>
                <a:endCxn id="302" idx="3"/>
              </p:cNvCxnSpPr>
              <p:nvPr/>
            </p:nvCxnSpPr>
            <p:spPr>
              <a:xfrm flipH="1">
                <a:off x="2903400" y="3885840"/>
                <a:ext cx="232560" cy="3927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03" name=""/>
              <p:cNvCxnSpPr>
                <a:stCxn id="251" idx="1"/>
                <a:endCxn id="304" idx="3"/>
              </p:cNvCxnSpPr>
              <p:nvPr/>
            </p:nvCxnSpPr>
            <p:spPr>
              <a:xfrm flipH="1">
                <a:off x="2901960" y="3885840"/>
                <a:ext cx="234000" cy="6102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05" name=""/>
              <p:cNvCxnSpPr>
                <a:stCxn id="251" idx="1"/>
                <a:endCxn id="306" idx="3"/>
              </p:cNvCxnSpPr>
              <p:nvPr/>
            </p:nvCxnSpPr>
            <p:spPr>
              <a:xfrm flipH="1" flipV="1">
                <a:off x="2901960" y="3580560"/>
                <a:ext cx="234000" cy="3056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sp>
            <p:nvSpPr>
              <p:cNvPr id="296" name=""/>
              <p:cNvSpPr/>
              <p:nvPr/>
            </p:nvSpPr>
            <p:spPr>
              <a:xfrm>
                <a:off x="2064600" y="321156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1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2062800" y="342900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2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064600" y="366876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3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062800" y="388620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4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064600" y="412596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5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062800" y="434340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6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980720" y="2895480"/>
                <a:ext cx="1072800" cy="198144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015640" y="2895480"/>
                <a:ext cx="82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1485720" y="33526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1485720" y="35812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1485720" y="38098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485720" y="40384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1485720" y="42670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1485720" y="44956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2754720" y="1676520"/>
              <a:ext cx="745920" cy="307080"/>
              <a:chOff x="2754720" y="1676520"/>
              <a:chExt cx="745920" cy="307080"/>
            </a:xfrm>
          </p:grpSpPr>
          <p:sp>
            <p:nvSpPr>
              <p:cNvPr id="316" name=""/>
              <p:cNvSpPr/>
              <p:nvPr/>
            </p:nvSpPr>
            <p:spPr>
              <a:xfrm>
                <a:off x="2754720" y="1676520"/>
                <a:ext cx="745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out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flipH="1">
                <a:off x="2805480" y="1981080"/>
                <a:ext cx="66060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8" name=""/>
          <p:cNvGrpSpPr/>
          <p:nvPr/>
        </p:nvGrpSpPr>
        <p:grpSpPr>
          <a:xfrm>
            <a:off x="3170520" y="1676520"/>
            <a:ext cx="873720" cy="5181480"/>
            <a:chOff x="3170520" y="1676520"/>
            <a:chExt cx="873720" cy="5181480"/>
          </a:xfrm>
        </p:grpSpPr>
        <p:grpSp>
          <p:nvGrpSpPr>
            <p:cNvPr id="319" name=""/>
            <p:cNvGrpSpPr/>
            <p:nvPr/>
          </p:nvGrpSpPr>
          <p:grpSpPr>
            <a:xfrm>
              <a:off x="3170520" y="3505320"/>
              <a:ext cx="873720" cy="535680"/>
              <a:chOff x="3170520" y="3505320"/>
              <a:chExt cx="873720" cy="535680"/>
            </a:xfrm>
          </p:grpSpPr>
          <p:sp>
            <p:nvSpPr>
              <p:cNvPr id="251" name=""/>
              <p:cNvSpPr/>
              <p:nvPr/>
            </p:nvSpPr>
            <p:spPr>
              <a:xfrm>
                <a:off x="3170520" y="3733920"/>
                <a:ext cx="84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ispatc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044240" y="3962520"/>
                <a:ext cx="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322800" y="350532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BI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2" name=""/>
            <p:cNvSpPr/>
            <p:nvPr/>
          </p:nvSpPr>
          <p:spPr>
            <a:xfrm>
              <a:off x="3549600" y="1676520"/>
              <a:ext cx="0" cy="175248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549600" y="4114800"/>
              <a:ext cx="0" cy="274320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3580560" y="1676520"/>
            <a:ext cx="5929560" cy="5181480"/>
            <a:chOff x="3580560" y="1676520"/>
            <a:chExt cx="5929560" cy="5181480"/>
          </a:xfrm>
        </p:grpSpPr>
        <p:grpSp>
          <p:nvGrpSpPr>
            <p:cNvPr id="325" name=""/>
            <p:cNvGrpSpPr/>
            <p:nvPr/>
          </p:nvGrpSpPr>
          <p:grpSpPr>
            <a:xfrm>
              <a:off x="5613120" y="2590560"/>
              <a:ext cx="1032480" cy="2895480"/>
              <a:chOff x="5613120" y="2590560"/>
              <a:chExt cx="1032480" cy="2895480"/>
            </a:xfrm>
          </p:grpSpPr>
          <p:cxnSp>
            <p:nvCxnSpPr>
              <p:cNvPr id="326" name=""/>
              <p:cNvCxnSpPr>
                <a:stCxn id="275" idx="0"/>
                <a:endCxn id="327" idx="1"/>
              </p:cNvCxnSpPr>
              <p:nvPr/>
            </p:nvCxnSpPr>
            <p:spPr>
              <a:xfrm flipV="1">
                <a:off x="5613120" y="3580920"/>
                <a:ext cx="991080" cy="9914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28" name=""/>
              <p:cNvCxnSpPr>
                <a:stCxn id="276" idx="0"/>
                <a:endCxn id="329" idx="1"/>
              </p:cNvCxnSpPr>
              <p:nvPr/>
            </p:nvCxnSpPr>
            <p:spPr>
              <a:xfrm flipV="1">
                <a:off x="5613480" y="4277520"/>
                <a:ext cx="992880" cy="9802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30" name=""/>
              <p:cNvCxnSpPr>
                <a:stCxn id="274" idx="0"/>
                <a:endCxn id="331" idx="1"/>
              </p:cNvCxnSpPr>
              <p:nvPr/>
            </p:nvCxnSpPr>
            <p:spPr>
              <a:xfrm>
                <a:off x="5613480" y="2590560"/>
                <a:ext cx="992880" cy="12308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32" name=""/>
              <p:cNvCxnSpPr>
                <a:stCxn id="278" idx="0"/>
              </p:cNvCxnSpPr>
              <p:nvPr/>
            </p:nvCxnSpPr>
            <p:spPr>
              <a:xfrm flipV="1">
                <a:off x="5613480" y="4582440"/>
                <a:ext cx="992880" cy="9039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33" name=""/>
              <p:cNvCxnSpPr>
                <a:stCxn id="277" idx="0"/>
              </p:cNvCxnSpPr>
              <p:nvPr/>
            </p:nvCxnSpPr>
            <p:spPr>
              <a:xfrm>
                <a:off x="5613480" y="3276720"/>
                <a:ext cx="1032480" cy="12960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</p:grpSp>
        <p:grpSp>
          <p:nvGrpSpPr>
            <p:cNvPr id="334" name=""/>
            <p:cNvGrpSpPr/>
            <p:nvPr/>
          </p:nvGrpSpPr>
          <p:grpSpPr>
            <a:xfrm>
              <a:off x="3580560" y="1676520"/>
              <a:ext cx="5929560" cy="5181480"/>
              <a:chOff x="3580560" y="1676520"/>
              <a:chExt cx="5929560" cy="518148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6273720" y="2971800"/>
                <a:ext cx="3236400" cy="3886200"/>
                <a:chOff x="6273720" y="2971800"/>
                <a:chExt cx="3236400" cy="388620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6273720" y="2971800"/>
                  <a:ext cx="2062800" cy="3505680"/>
                  <a:chOff x="6273720" y="2971800"/>
                  <a:chExt cx="2062800" cy="3505680"/>
                </a:xfrm>
              </p:grpSpPr>
              <p:grpSp>
                <p:nvGrpSpPr>
                  <p:cNvPr id="337" name=""/>
                  <p:cNvGrpSpPr/>
                  <p:nvPr/>
                </p:nvGrpSpPr>
                <p:grpSpPr>
                  <a:xfrm>
                    <a:off x="6273720" y="2971800"/>
                    <a:ext cx="1402560" cy="1905120"/>
                    <a:chOff x="6273720" y="2971800"/>
                    <a:chExt cx="1402560" cy="1905120"/>
                  </a:xfrm>
                </p:grpSpPr>
                <p:sp>
                  <p:nvSpPr>
                    <p:cNvPr id="338" name=""/>
                    <p:cNvSpPr/>
                    <p:nvPr/>
                  </p:nvSpPr>
                  <p:spPr>
                    <a:xfrm>
                      <a:off x="6273720" y="2971800"/>
                      <a:ext cx="1402560" cy="1905120"/>
                    </a:xfrm>
                    <a:prstGeom prst="rect">
                      <a:avLst/>
                    </a:prstGeom>
                    <a:noFill/>
                    <a:ln cap="rnd" w="12600">
                      <a:solidFill>
                        <a:srgbClr val="ffff66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9" name=""/>
                    <p:cNvSpPr/>
                    <p:nvPr/>
                  </p:nvSpPr>
                  <p:spPr>
                    <a:xfrm>
                      <a:off x="6604920" y="321156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7" name=""/>
                    <p:cNvSpPr/>
                    <p:nvPr/>
                  </p:nvSpPr>
                  <p:spPr>
                    <a:xfrm>
                      <a:off x="6603120" y="342900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1" name=""/>
                    <p:cNvSpPr/>
                    <p:nvPr/>
                  </p:nvSpPr>
                  <p:spPr>
                    <a:xfrm>
                      <a:off x="6604920" y="366876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0" name=""/>
                    <p:cNvSpPr/>
                    <p:nvPr/>
                  </p:nvSpPr>
                  <p:spPr>
                    <a:xfrm>
                      <a:off x="6603120" y="388620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9" name=""/>
                    <p:cNvSpPr/>
                    <p:nvPr/>
                  </p:nvSpPr>
                  <p:spPr>
                    <a:xfrm>
                      <a:off x="6604920" y="412596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1" name=""/>
                    <p:cNvSpPr/>
                    <p:nvPr/>
                  </p:nvSpPr>
                  <p:spPr>
                    <a:xfrm>
                      <a:off x="6316200" y="2971800"/>
                      <a:ext cx="104040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DBI::_::d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2" name=""/>
                    <p:cNvSpPr/>
                    <p:nvPr/>
                  </p:nvSpPr>
                  <p:spPr>
                    <a:xfrm>
                      <a:off x="6685920" y="4572000"/>
                      <a:ext cx="659880" cy="0"/>
                    </a:xfrm>
                    <a:prstGeom prst="line">
                      <a:avLst/>
                    </a:prstGeom>
                    <a:ln cap="rnd" w="1260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cxnSp>
                <p:nvCxnSpPr>
                  <p:cNvPr id="343" name=""/>
                  <p:cNvCxnSpPr>
                    <a:endCxn id="344" idx="1"/>
                  </p:cNvCxnSpPr>
                  <p:nvPr/>
                </p:nvCxnSpPr>
                <p:spPr>
                  <a:xfrm>
                    <a:off x="7345800" y="4572000"/>
                    <a:ext cx="991080" cy="1905840"/>
                  </a:xfrm>
                  <a:prstGeom prst="straightConnector1">
                    <a:avLst/>
                  </a:prstGeom>
                  <a:ln w="12600">
                    <a:solidFill>
                      <a:srgbClr val="ffffff"/>
                    </a:solidFill>
                    <a:prstDash val="sysDot"/>
                    <a:miter/>
                  </a:ln>
                </p:spPr>
              </p:cxnSp>
            </p:grpSp>
            <p:grpSp>
              <p:nvGrpSpPr>
                <p:cNvPr id="345" name=""/>
                <p:cNvGrpSpPr/>
                <p:nvPr/>
              </p:nvGrpSpPr>
              <p:grpSpPr>
                <a:xfrm>
                  <a:off x="7924320" y="4952880"/>
                  <a:ext cx="1585800" cy="1905120"/>
                  <a:chOff x="7924320" y="4952880"/>
                  <a:chExt cx="1585800" cy="1905120"/>
                </a:xfrm>
              </p:grpSpPr>
              <p:sp>
                <p:nvSpPr>
                  <p:cNvPr id="346" name=""/>
                  <p:cNvSpPr/>
                  <p:nvPr/>
                </p:nvSpPr>
                <p:spPr>
                  <a:xfrm>
                    <a:off x="7924320" y="4952880"/>
                    <a:ext cx="1568160" cy="1905120"/>
                  </a:xfrm>
                  <a:prstGeom prst="rect">
                    <a:avLst/>
                  </a:prstGeom>
                  <a:noFill/>
                  <a:ln cap="rnd" w="12600">
                    <a:solidFill>
                      <a:srgbClr val="ffff66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7" name=""/>
                  <p:cNvSpPr/>
                  <p:nvPr/>
                </p:nvSpPr>
                <p:spPr>
                  <a:xfrm>
                    <a:off x="8336520" y="5867280"/>
                    <a:ext cx="874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4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4" name=""/>
                  <p:cNvSpPr/>
                  <p:nvPr/>
                </p:nvSpPr>
                <p:spPr>
                  <a:xfrm>
                    <a:off x="8336520" y="6324480"/>
                    <a:ext cx="874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6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8" name=""/>
                  <p:cNvSpPr/>
                  <p:nvPr/>
                </p:nvSpPr>
                <p:spPr>
                  <a:xfrm>
                    <a:off x="7945560" y="4952880"/>
                    <a:ext cx="156456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66"/>
                        </a:solidFill>
                        <a:latin typeface="Arial"/>
                      </a:rPr>
                      <a:t>DBI::_::common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7924320" y="6858000"/>
                    <a:ext cx="1568160" cy="0"/>
                  </a:xfrm>
                  <a:prstGeom prst="line">
                    <a:avLst/>
                  </a:prstGeom>
                  <a:ln w="19080">
                    <a:solidFill>
                      <a:srgbClr val="0032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50" name=""/>
              <p:cNvGrpSpPr/>
              <p:nvPr/>
            </p:nvGrpSpPr>
            <p:grpSpPr>
              <a:xfrm>
                <a:off x="3580560" y="1676520"/>
                <a:ext cx="735480" cy="307080"/>
                <a:chOff x="3580560" y="1676520"/>
                <a:chExt cx="735480" cy="307080"/>
              </a:xfrm>
            </p:grpSpPr>
            <p:sp>
              <p:nvSpPr>
                <p:cNvPr id="351" name=""/>
                <p:cNvSpPr/>
                <p:nvPr/>
              </p:nvSpPr>
              <p:spPr>
                <a:xfrm>
                  <a:off x="3580560" y="1676520"/>
                  <a:ext cx="735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‘’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inner’’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 flipH="1">
                  <a:off x="3631680" y="1981080"/>
                  <a:ext cx="659880" cy="0"/>
                </a:xfrm>
                <a:prstGeom prst="line">
                  <a:avLst/>
                </a:prstGeom>
                <a:ln w="19080">
                  <a:solidFill>
                    <a:srgbClr val="ffff66"/>
                  </a:solidFill>
                  <a:miter/>
                  <a:head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natomy of a DBI hand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90600" y="2906640"/>
            <a:ext cx="743040" cy="52380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03920" y="2897280"/>
            <a:ext cx="74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nd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f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3467160" y="3419280"/>
            <a:ext cx="742680" cy="686160"/>
            <a:chOff x="3467160" y="3419280"/>
            <a:chExt cx="742680" cy="686160"/>
          </a:xfrm>
        </p:grpSpPr>
        <p:sp>
          <p:nvSpPr>
            <p:cNvPr id="357" name=""/>
            <p:cNvSpPr/>
            <p:nvPr/>
          </p:nvSpPr>
          <p:spPr>
            <a:xfrm>
              <a:off x="3467160" y="3581280"/>
              <a:ext cx="742680" cy="52416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358" name=""/>
            <p:cNvCxnSpPr>
              <a:stCxn id="359" idx="2"/>
              <a:endCxn id="357" idx="0"/>
            </p:cNvCxnSpPr>
            <p:nvPr/>
          </p:nvCxnSpPr>
          <p:spPr>
            <a:xfrm>
              <a:off x="3838320" y="3419280"/>
              <a:ext cx="1080" cy="16236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</p:cxnSp>
        <p:sp>
          <p:nvSpPr>
            <p:cNvPr id="360" name=""/>
            <p:cNvSpPr/>
            <p:nvPr/>
          </p:nvSpPr>
          <p:spPr>
            <a:xfrm>
              <a:off x="3494880" y="3581280"/>
              <a:ext cx="656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gi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1" name=""/>
          <p:cNvSpPr/>
          <p:nvPr/>
        </p:nvSpPr>
        <p:spPr>
          <a:xfrm>
            <a:off x="3054240" y="1752480"/>
            <a:ext cx="0" cy="487692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094840" y="1752480"/>
            <a:ext cx="7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2146320" y="2057400"/>
            <a:ext cx="74304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250800" y="1752480"/>
            <a:ext cx="73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n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219480" y="2057400"/>
            <a:ext cx="74304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4375080" y="2895120"/>
            <a:ext cx="2971440" cy="2286360"/>
            <a:chOff x="4375080" y="2895120"/>
            <a:chExt cx="2971440" cy="2286360"/>
          </a:xfrm>
        </p:grpSpPr>
        <p:sp>
          <p:nvSpPr>
            <p:cNvPr id="367" name=""/>
            <p:cNvSpPr/>
            <p:nvPr/>
          </p:nvSpPr>
          <p:spPr>
            <a:xfrm flipV="1">
              <a:off x="4375080" y="2895120"/>
              <a:ext cx="577800" cy="68580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375080" y="4114800"/>
              <a:ext cx="577800" cy="106668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952880" y="2895480"/>
              <a:ext cx="2393640" cy="2286000"/>
            </a:xfrm>
            <a:prstGeom prst="rect">
              <a:avLst/>
            </a:prstGeom>
            <a:noFill/>
            <a:ln cap="rnd" w="12600">
              <a:solidFill>
                <a:srgbClr val="ff99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ruct imp_dbh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 dbih_dbc_t  com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mplementers …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wn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7346880" y="2895480"/>
            <a:ext cx="2393640" cy="2286000"/>
            <a:chOff x="7346880" y="2895480"/>
            <a:chExt cx="2393640" cy="2286000"/>
          </a:xfrm>
        </p:grpSpPr>
        <p:sp>
          <p:nvSpPr>
            <p:cNvPr id="371" name=""/>
            <p:cNvSpPr/>
            <p:nvPr/>
          </p:nvSpPr>
          <p:spPr>
            <a:xfrm>
              <a:off x="7774560" y="2895480"/>
              <a:ext cx="1965960" cy="22860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dbih_dbc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   …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DBI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7346880" y="2895480"/>
              <a:ext cx="427680" cy="53352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H="1" flipV="1">
              <a:off x="7346880" y="3505320"/>
              <a:ext cx="427680" cy="167616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4" name=""/>
          <p:cNvSpPr/>
          <p:nvPr/>
        </p:nvSpPr>
        <p:spPr>
          <a:xfrm>
            <a:off x="1981080" y="2895480"/>
            <a:ext cx="743040" cy="524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467160" y="2895480"/>
            <a:ext cx="743040" cy="524160"/>
          </a:xfrm>
          <a:prstGeom prst="rect">
            <a:avLst/>
          </a:prstGeom>
          <a:noFill/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75" name=""/>
          <p:cNvCxnSpPr>
            <a:stCxn id="355" idx="3"/>
            <a:endCxn id="374" idx="1"/>
          </p:cNvCxnSpPr>
          <p:nvPr/>
        </p:nvCxnSpPr>
        <p:spPr>
          <a:xfrm>
            <a:off x="1149480" y="3156120"/>
            <a:ext cx="832320" cy="216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</p:cxnSp>
      <p:sp>
        <p:nvSpPr>
          <p:cNvPr id="376" name=""/>
          <p:cNvSpPr/>
          <p:nvPr/>
        </p:nvSpPr>
        <p:spPr>
          <a:xfrm>
            <a:off x="1981080" y="3581280"/>
            <a:ext cx="743040" cy="52416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2"/>
            <a:endCxn id="376" idx="0"/>
          </p:cNvCxnSpPr>
          <p:nvPr/>
        </p:nvCxnSpPr>
        <p:spPr>
          <a:xfrm>
            <a:off x="2352240" y="3419280"/>
            <a:ext cx="1080" cy="16236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</p:cxnSp>
      <p:cxnSp>
        <p:nvCxnSpPr>
          <p:cNvPr id="378" name=""/>
          <p:cNvCxnSpPr>
            <a:stCxn id="376" idx="3"/>
            <a:endCxn id="359" idx="1"/>
          </p:cNvCxnSpPr>
          <p:nvPr/>
        </p:nvCxnSpPr>
        <p:spPr>
          <a:xfrm flipV="1">
            <a:off x="2724120" y="3156840"/>
            <a:ext cx="743760" cy="68652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</p:cxnSp>
      <p:sp>
        <p:nvSpPr>
          <p:cNvPr id="379" name=""/>
          <p:cNvSpPr/>
          <p:nvPr/>
        </p:nvSpPr>
        <p:spPr>
          <a:xfrm>
            <a:off x="1981800" y="2895480"/>
            <a:ext cx="59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i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s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67880" y="2971800"/>
            <a:ext cx="59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s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981440" y="3581280"/>
            <a:ext cx="656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i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agi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898640" y="2514600"/>
            <a:ext cx="7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::d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384720" y="251460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367080" y="2525760"/>
            <a:ext cx="7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::d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708200" y="2374920"/>
            <a:ext cx="2774880" cy="2117880"/>
          </a:xfrm>
          <a:prstGeom prst="rect">
            <a:avLst/>
          </a:prstGeom>
          <a:noFill/>
          <a:ln w="3240">
            <a:solidFill>
              <a:srgbClr val="0000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ethod call walk-through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spcAft>
                <a:spcPts val="1001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sider a simple prepare call: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dbh-&gt;prepare(…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11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db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s reference to an object in the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BI::db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lass (regardless of driv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11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DBI::db::prepar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ethod is an alias for the DBI dispatch metho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I dispatch calls the driver’s own prepare method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somethin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like thi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my $inner_hash_ref = …     # from tie mag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my $implementor_class = …  # from DBI magic 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ner_hash_ref-&gt;$implementor_class::prepare(...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river code gets the inner hash so it has fast access to the hash cont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atching the DBI in actio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has detailed call tracing built-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trace can be very helpful in understanding application behavior and for debugg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ows parameters and resul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show detailed driver internal infor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information can be written to a fi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used often enoug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 used often enoug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 used often enough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t used often enough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Enabling trac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er hand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trace($level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trace($level, $filenam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nly effects that handle and any new child handles created from 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hild handles get trace level of parent in effect at time of cre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876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lobal (internal to applic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-&gt;trace(...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ts effective global default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minimum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trac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876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lobal (external to applic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nabled us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DBI_TRAC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environment vari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_TRACE=digits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-&gt;trace(digit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_TRACE=filename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-&gt;trace(2, filenam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_TRACE=digits=filename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-&gt;trace(digits, filenam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Our program for today...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-360" y="1980720"/>
            <a:ext cx="99061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cccc"/>
                </a:solidFill>
                <a:latin typeface="Courier New"/>
              </a:rPr>
              <a:t>1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#!/usr/bin/perl -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2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3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4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5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 = DBI-&gt;connect('', '', '', { RaiseError =&gt; 1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6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7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upd = $dbh-&gt;prepare("UPDATE prices SET price=? WHERE prod_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8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 = $dbh-&gt;prepare("INSERT INTO prices (prod_id,price) VALUES(?,?)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9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rows = $upd-&gt;execute(42, "Widgets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0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-&gt;execute("Widgets", 42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1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2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-&gt;disconnec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12920" y="1981080"/>
            <a:ext cx="92455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ce level 1 shows method results and line number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&lt;-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= DBI::db=HASH(0xe0abc)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at DBI.pm line 356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('PrintError', 1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AutoCommit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RaiseError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('UPDATE …')= DBI::st=HASH(0xe1238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('INSERT …')= DBI::st=HASH(0xe1504) at test.pl line 8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and abov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ce level 2 shows calls with parameters and mor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-&gt;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 for DBD::ODBC::dr (DBI::dr=HASH(0x13dfec)~0xe14a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' ''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****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HASH(0xe0a10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connect=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0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at DBI.pm line 356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STORE for DBD::ODBC::db (DBI::db=HASH(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c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)~INNER 'PrintError'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prepare for DBD::ODBC::db (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0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)~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UPDATE prices SET price=? WHERE prod_id=?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74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ce level 3 and above shows more processing detai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o do or to undo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hat is the ques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905120" y="3130560"/>
            <a:ext cx="6426000" cy="749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Mod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05120" y="1911240"/>
            <a:ext cx="6426000" cy="749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l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445080" y="4425840"/>
            <a:ext cx="1886040" cy="74952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th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216320" y="4425840"/>
            <a:ext cx="1886040" cy="74952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Inform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4425840"/>
            <a:ext cx="1885680" cy="74952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Orac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118120" y="26668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118120" y="396252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054240" y="3962520"/>
            <a:ext cx="198144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200560" y="3962520"/>
            <a:ext cx="198144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724120" y="51814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118120" y="51814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512120" y="51814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262240" y="5410080"/>
            <a:ext cx="921600" cy="993960"/>
            <a:chOff x="2262240" y="5410080"/>
            <a:chExt cx="921600" cy="993960"/>
          </a:xfrm>
        </p:grpSpPr>
        <p:grpSp>
          <p:nvGrpSpPr>
            <p:cNvPr id="113" name=""/>
            <p:cNvGrpSpPr/>
            <p:nvPr/>
          </p:nvGrpSpPr>
          <p:grpSpPr>
            <a:xfrm>
              <a:off x="2262240" y="5410080"/>
              <a:ext cx="921600" cy="993960"/>
              <a:chOff x="2262240" y="5410080"/>
              <a:chExt cx="921600" cy="993960"/>
            </a:xfrm>
          </p:grpSpPr>
          <p:sp>
            <p:nvSpPr>
              <p:cNvPr id="114" name=""/>
              <p:cNvSpPr/>
              <p:nvPr/>
            </p:nvSpPr>
            <p:spPr>
              <a:xfrm>
                <a:off x="2262240" y="6129360"/>
                <a:ext cx="9216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262240" y="5554800"/>
                <a:ext cx="92160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62240" y="5410080"/>
                <a:ext cx="9216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2270520" y="6264360"/>
              <a:ext cx="908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272320" y="5553000"/>
              <a:ext cx="9050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4651200" y="5410080"/>
            <a:ext cx="923400" cy="993960"/>
            <a:chOff x="4651200" y="5410080"/>
            <a:chExt cx="923400" cy="993960"/>
          </a:xfrm>
        </p:grpSpPr>
        <p:grpSp>
          <p:nvGrpSpPr>
            <p:cNvPr id="120" name=""/>
            <p:cNvGrpSpPr/>
            <p:nvPr/>
          </p:nvGrpSpPr>
          <p:grpSpPr>
            <a:xfrm>
              <a:off x="4651200" y="5410080"/>
              <a:ext cx="923400" cy="993960"/>
              <a:chOff x="4651200" y="5410080"/>
              <a:chExt cx="923400" cy="993960"/>
            </a:xfrm>
          </p:grpSpPr>
          <p:sp>
            <p:nvSpPr>
              <p:cNvPr id="121" name=""/>
              <p:cNvSpPr/>
              <p:nvPr/>
            </p:nvSpPr>
            <p:spPr>
              <a:xfrm>
                <a:off x="4651200" y="612936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651200" y="5554800"/>
                <a:ext cx="92340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651200" y="541008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4659480" y="6264360"/>
              <a:ext cx="9100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61640" y="5553000"/>
              <a:ext cx="9068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7056360" y="5410080"/>
            <a:ext cx="923400" cy="993960"/>
            <a:chOff x="7056360" y="5410080"/>
            <a:chExt cx="923400" cy="993960"/>
          </a:xfrm>
        </p:grpSpPr>
        <p:grpSp>
          <p:nvGrpSpPr>
            <p:cNvPr id="127" name=""/>
            <p:cNvGrpSpPr/>
            <p:nvPr/>
          </p:nvGrpSpPr>
          <p:grpSpPr>
            <a:xfrm>
              <a:off x="7056360" y="5410080"/>
              <a:ext cx="923400" cy="993960"/>
              <a:chOff x="7056360" y="5410080"/>
              <a:chExt cx="923400" cy="993960"/>
            </a:xfrm>
          </p:grpSpPr>
          <p:sp>
            <p:nvSpPr>
              <p:cNvPr id="128" name=""/>
              <p:cNvSpPr/>
              <p:nvPr/>
            </p:nvSpPr>
            <p:spPr>
              <a:xfrm>
                <a:off x="7056360" y="612936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056360" y="5554800"/>
                <a:ext cx="92340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056360" y="541008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1" name=""/>
            <p:cNvSpPr/>
            <p:nvPr/>
          </p:nvSpPr>
          <p:spPr>
            <a:xfrm>
              <a:off x="7064640" y="6264360"/>
              <a:ext cx="9100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066800" y="5553000"/>
              <a:ext cx="9064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2067840" y="6400800"/>
            <a:ext cx="1287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racle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75160" y="6400800"/>
            <a:ext cx="1396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formix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92200" y="6400800"/>
            <a:ext cx="1207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Othe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47680" y="3505320"/>
            <a:ext cx="1568520" cy="0"/>
          </a:xfrm>
          <a:prstGeom prst="line">
            <a:avLst/>
          </a:prstGeom>
          <a:ln w="12600">
            <a:solidFill>
              <a:srgbClr val="00cc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420040" y="3505320"/>
            <a:ext cx="1403280" cy="0"/>
          </a:xfrm>
          <a:prstGeom prst="line">
            <a:avLst/>
          </a:prstGeom>
          <a:ln w="12600">
            <a:solidFill>
              <a:srgbClr val="00cc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A picture is worth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What's it all about? 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ar more than just lock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A.C.I.D.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tomicity - Consistency - Isolation - Durability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ue transactions give true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ven from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power failure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system crashe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ncomplete transactions are automatically rolled-back by the database server when it's restart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lso removes burden of undoing incomplete chan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ard to implement (for the vendor) and has significant performance co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 very large topic worthy of an entire tutor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Life Preserv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Classic: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system crash between one bank account being debited and another being credit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Dramatic: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ower failure during update statement on 3 million rows after 2 minutes when only part way through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Real-world: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mplex series of inter-related updates, deletes and inserts on many separate tables fails at the last step due to a duplicate primary key on an inser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ransaction recovery would handle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all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hese situations automaticall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akes a system far more robust and trustworthy over the long ter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transactions if your database supports the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f it doesn't and you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nee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hem, switch to a different databas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How the DBI help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ools of the trad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t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AutoCommi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off, and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RaiseError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rap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eval { … }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around the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$dbh-&gt;commit;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rollback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isable AutoCommit via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AutoCommit} = 0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o enable transactions and thus rollback-on-err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nable RaiseError via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RaiseError} = 1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o automatically 'throw an exception' after an err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surround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eval { …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atches the exception, the error text is stored in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@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es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@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rollback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() if 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90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e that a failed statement doesn’t automatically trigger a roll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Example co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{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AutoCommit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 = 0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{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RaiseError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 = 1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eval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</a:t>
            </a:r>
            <a:r>
              <a:rPr b="0" i="1" lang="en-GB" sz="1800" spc="-1" strike="noStrike">
                <a:solidFill>
                  <a:srgbClr val="ffffff"/>
                </a:solidFill>
                <a:latin typeface="Courier New"/>
              </a:rPr>
              <a:t>method(…)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;   # assorted DBI cal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foo(...);          # application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commit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;      # commit the chang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if ($@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warn "Transaction aborted because $@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rollback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Further comment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eval { … }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catches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all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excep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ot just from DBI calls. Also catches fatal runtime errors from Per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u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commit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nside the ev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nsures commit failure is caught cleanl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remember that </a:t>
            </a:r>
            <a:r>
              <a:rPr b="0" i="1" lang="en-GB" sz="1600" spc="-1" strike="noStrike">
                <a:solidFill>
                  <a:srgbClr val="ffffff"/>
                </a:solidFill>
                <a:latin typeface="Courier New"/>
              </a:rPr>
              <a:t>commit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()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itself may fail for many reas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on't forget tha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rollback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may also fai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due to database crash or network failure et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so you may want to call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eval { $dbh-&gt;rollback() }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ther point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lways explicitly commit or rollback before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disconnect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(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Destroying a connected $dbh 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should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always rollback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ND blocks can catch exit-without-disconnect to rollback and disconnect cleanl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DBI for the Web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Hand waving from 30,000 fe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Connect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atabases can be slow to conn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raditional CGI 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forces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a new connect per reques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ove Perl and DBI into the web 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pache with mod_perl and Apache::DBI modu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Microsoft IIS with ActiveState's PerlE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nnections can then persist and be shared between reques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pache::DBI automatically used by DBI if load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o CGI script changes required to get persisten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ake care not to change the shared session behaviou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Leave the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dbh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in the same state you found it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ther alternatives inclu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stCGI, CGI::SpeedyCGI and CGI::MiniSv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Too many connectio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imits on Database Conn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atabase platform resources or licens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emory consumption of web serv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artition web servers into General and Datab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irect database work to the Database web ser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 Reverse Proxy / Redirect / Rewrite to achieve th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llows each subset of servers to be tuned to best fit worklo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/or be run on appropriate hardware platfor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State-less-nes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 fixed client-server pai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ach request can be handled by a different proces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can't simply stop fetching when one page is complete and continue fetching from the same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sth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when the next page is request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 transactions can't span requests. Even if they could you'd have problems with database locks being held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15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eed access to 'accumulated state' somehow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ia the client (e.g., hidden form field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ia the serve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in the database (records in a session_state table keyed by a ‘session id’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in the web server file system (DBM files etc) if shared across serv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eed to purge old state info if stored on server, so timestamp 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See Apache::Session modu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::ProxyServer + connect_cached with session id may suit, one d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493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Browsing pages of result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4932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-execute query each time then count/discard (simple but expensiv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orks well for small results sets or where users rarely view many pag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fast initial response, degrades gradually for later pag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ount/discard in server is better but still inefficient for large result se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ount/discard affected by inserts and deletes from other process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-execute query with where clause using min/max keys from last resul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orks well where original query can be qualified in that way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, not comm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lect and cache full result rows somewhere for fast acc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an be expensive for large result sets with big field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lect and cache only the row keys, fetch full rows as need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optimisation of above, use ROWID if supported, "select … where … in (…)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f data is static and queries predict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then custom pre-built indexes may be usefu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caches can be on web server, using DBM file for example, or on database server using a table keyed by session 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cccc"/>
                </a:solidFill>
                <a:latin typeface="Times New Roman"/>
              </a:rPr>
              <a:t>Speed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   </a:t>
            </a:r>
            <a:r>
              <a:rPr b="0" i="1" lang="en-GB" sz="5400" spc="-1" strike="noStrike">
                <a:solidFill>
                  <a:srgbClr val="00cccc"/>
                </a:solidFill>
                <a:latin typeface="Times New Roman"/>
              </a:rPr>
              <a:t>Speed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   </a:t>
            </a:r>
            <a:r>
              <a:rPr b="0" i="1" lang="en-GB" sz="6600" spc="-1" strike="noStrike">
                <a:solidFill>
                  <a:srgbClr val="00cccc"/>
                </a:solidFill>
                <a:latin typeface="Times New Roman"/>
              </a:rPr>
              <a:t>Speed</a:t>
            </a:r>
            <a:r>
              <a:rPr b="0" i="1" lang="en-GB" sz="5400" spc="-1" strike="noStrike">
                <a:solidFill>
                  <a:srgbClr val="00cccc"/>
                </a:solidFill>
                <a:latin typeface="Times New Roman"/>
              </a:rPr>
              <a:t>!</a:t>
            </a:r>
            <a:endParaRPr b="0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What helps,what doesn'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Concurrent edit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ow to prevent updates overwriting each other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You can use Optimistic Locking via 'qualified update'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update table set 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where  key = $old_ke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and field1 = $old_field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and field2 = $old_field2 and …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all fiel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heck the update row 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f it's zero then you know the record has been changed or deleted by another proc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otential problems with floating point data values not match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databases support a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high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resolution 'update timestamp' field that can be checked inste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486080" y="3476520"/>
            <a:ext cx="3500280" cy="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Tips for the novic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est one step at a ti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est perl + DBI + DBD driver outside the web server fir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est web server + non-DBI CGI n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emember that CGI scripts run as a different user with a different environment - expect to be tripped up by tha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BI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trace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s your friend - use i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the Perl "-w" and "-T" options. Always "use strict;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ead and inwardly digest the WWW Security FAQ: 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w3.org/Security/Faq/www-security-faq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ead the Perl CGI FAQ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http://www.perl.com/cgi-bin/pace/pub/doc/FAQs/cgi/perl-cgi-faq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, if appropriate, read the mod_perl information available from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http://perl.apache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DBI security taint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y default the DBI ignores Perl tain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oesn't taint returned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oesn't check that parameters are not tain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Taint attribute enables that behavi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f Perl itself is in taint m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ach handle has it's own inherited Taint attribu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 can be enabled for particular connections and disabled for particular statements, for exampl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 = DBI-&gt;connect(…, { Taint =&gt; 1 }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 = $dbh-&gt;prepare("select * from safe_table"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-&gt;{Taint} = 0;  # no tainting on this hand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andling LONG/BLOB data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4932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at makes LONG / BLOB / MEMO data special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ot practical to pre-allocate fixed size buffers for worst c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etching LONGs - treat as normal fields after setting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LongReadLen}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- buffer size to allocate for expected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LongTruncOk}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- should truncating-to-fit be allow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serting LO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limitations of string litera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benefits of placehold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hunking / Piecewise processing not suppor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 you're limited to available mem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drivers suppor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blob_read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other private metho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ortabilit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A Holy Gra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To be taken with a pinch of sa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ortability in practic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rtability requires care and testing - it can be trick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latform Portability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the easier b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vailability of database client software (and server if require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vailability of DBD dri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D::Proxy can address both these issues - see la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atabase Portability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more trick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fferences in SQL dialects cause most probl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fferences in data types can also be a probl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river capabilities (placeholders etc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BIx::Compat module (in DBIx::RecordSet) may be usefu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 standard DBI test suite is needed (and planned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Power of the Prox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Thin clients 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and other buzz wor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tworking for Non-networked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D::Proxy driver forwards calls over network to remote DBI::ProxySer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changes in application behavi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ly the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DBI-&gt;connec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tatement needs to be chang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xy can be made completely transparent by setting the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BI_AUTOPROX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nvironment vari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 not even the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DBI-&gt;connec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tatement needs to be changed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::ProxyServer works on Win3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ccess to Access and other Win32 ODBC and ADO data sour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veloped by Jochen Wiedman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 Proxy Pictur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412920" y="2057400"/>
            <a:ext cx="3301560" cy="2514600"/>
            <a:chOff x="412920" y="2057400"/>
            <a:chExt cx="3301560" cy="2514600"/>
          </a:xfrm>
        </p:grpSpPr>
        <p:sp>
          <p:nvSpPr>
            <p:cNvPr id="439" name=""/>
            <p:cNvSpPr/>
            <p:nvPr/>
          </p:nvSpPr>
          <p:spPr>
            <a:xfrm>
              <a:off x="412920" y="2057400"/>
              <a:ext cx="3301560" cy="1600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12920" y="3809880"/>
              <a:ext cx="330156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363680" y="2362320"/>
              <a:ext cx="105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34208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412920" y="5486400"/>
            <a:ext cx="3301200" cy="762120"/>
            <a:chOff x="412920" y="5486400"/>
            <a:chExt cx="3301200" cy="762120"/>
          </a:xfrm>
        </p:grpSpPr>
        <p:sp>
          <p:nvSpPr>
            <p:cNvPr id="444" name=""/>
            <p:cNvSpPr/>
            <p:nvPr/>
          </p:nvSpPr>
          <p:spPr>
            <a:xfrm>
              <a:off x="412920" y="5486400"/>
              <a:ext cx="330120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370880" y="5715000"/>
              <a:ext cx="121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Cli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12920" y="5791320"/>
              <a:ext cx="90792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47480" y="586728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641320" y="5791320"/>
              <a:ext cx="10728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680920" y="5867280"/>
              <a:ext cx="101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6191280" y="4724280"/>
            <a:ext cx="3301560" cy="762120"/>
            <a:chOff x="6191280" y="4724280"/>
            <a:chExt cx="3301560" cy="762120"/>
          </a:xfrm>
        </p:grpSpPr>
        <p:sp>
          <p:nvSpPr>
            <p:cNvPr id="451" name=""/>
            <p:cNvSpPr/>
            <p:nvPr/>
          </p:nvSpPr>
          <p:spPr>
            <a:xfrm>
              <a:off x="6191280" y="4724280"/>
              <a:ext cx="3301560" cy="762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139160" y="4952880"/>
              <a:ext cx="96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Fo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3" name=""/>
          <p:cNvGrpSpPr/>
          <p:nvPr/>
        </p:nvGrpSpPr>
        <p:grpSpPr>
          <a:xfrm>
            <a:off x="6191280" y="2057400"/>
            <a:ext cx="3301560" cy="2514600"/>
            <a:chOff x="6191280" y="2057400"/>
            <a:chExt cx="3301560" cy="2514600"/>
          </a:xfrm>
        </p:grpSpPr>
        <p:sp>
          <p:nvSpPr>
            <p:cNvPr id="454" name=""/>
            <p:cNvSpPr/>
            <p:nvPr/>
          </p:nvSpPr>
          <p:spPr>
            <a:xfrm>
              <a:off x="6191280" y="3809880"/>
              <a:ext cx="330156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12008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191280" y="2057400"/>
              <a:ext cx="3301560" cy="8380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160760" y="2286000"/>
              <a:ext cx="1561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Proxy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191280" y="2895480"/>
              <a:ext cx="330156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233840" y="3124080"/>
              <a:ext cx="12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191280" y="3200400"/>
              <a:ext cx="99036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229440" y="3276720"/>
              <a:ext cx="96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8584560" y="3200400"/>
              <a:ext cx="90792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19120" y="327672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4" name=""/>
          <p:cNvGrpSpPr/>
          <p:nvPr/>
        </p:nvGrpSpPr>
        <p:grpSpPr>
          <a:xfrm>
            <a:off x="3738600" y="3429000"/>
            <a:ext cx="2451960" cy="2590200"/>
            <a:chOff x="3738600" y="3429000"/>
            <a:chExt cx="2451960" cy="2590200"/>
          </a:xfrm>
        </p:grpSpPr>
        <p:sp>
          <p:nvSpPr>
            <p:cNvPr id="465" name=""/>
            <p:cNvSpPr/>
            <p:nvPr/>
          </p:nvSpPr>
          <p:spPr>
            <a:xfrm>
              <a:off x="4292280" y="3505320"/>
              <a:ext cx="1486080" cy="1523880"/>
            </a:xfrm>
            <a:prstGeom prst="cloudCallout">
              <a:avLst>
                <a:gd name="adj1" fmla="val -25694"/>
                <a:gd name="adj2" fmla="val -31041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6" name=""/>
            <p:cNvCxnSpPr>
              <a:stCxn id="461" idx="1"/>
              <a:endCxn id="465" idx="0"/>
            </p:cNvCxnSpPr>
            <p:nvPr/>
          </p:nvCxnSpPr>
          <p:spPr>
            <a:xfrm flipV="1" rot="10800000">
              <a:off x="5775840" y="3428640"/>
              <a:ext cx="415080" cy="838800"/>
            </a:xfrm>
            <a:prstGeom prst="curvedConnector5">
              <a:avLst>
                <a:gd name="adj1" fmla="val 49739"/>
                <a:gd name="adj2" fmla="val 49978"/>
                <a:gd name="adj3" fmla="val 49739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cxnSp>
          <p:nvCxnSpPr>
            <p:cNvPr id="467" name=""/>
            <p:cNvCxnSpPr>
              <a:stCxn id="465" idx="1"/>
              <a:endCxn id="449" idx="3"/>
            </p:cNvCxnSpPr>
            <p:nvPr/>
          </p:nvCxnSpPr>
          <p:spPr>
            <a:xfrm flipV="1" rot="10800000">
              <a:off x="3738600" y="4266000"/>
              <a:ext cx="559080" cy="1753560"/>
            </a:xfrm>
            <a:prstGeom prst="curvedConnector5">
              <a:avLst>
                <a:gd name="adj1" fmla="val 50451"/>
                <a:gd name="adj2" fmla="val 50000"/>
                <a:gd name="adj3" fmla="val 50451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sp>
          <p:nvSpPr>
            <p:cNvPr id="468" name=""/>
            <p:cNvSpPr/>
            <p:nvPr/>
          </p:nvSpPr>
          <p:spPr>
            <a:xfrm>
              <a:off x="4574880" y="4038480"/>
              <a:ext cx="834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9" name=""/>
          <p:cNvGrpSpPr/>
          <p:nvPr/>
        </p:nvGrpSpPr>
        <p:grpSpPr>
          <a:xfrm>
            <a:off x="412920" y="4724280"/>
            <a:ext cx="3301560" cy="762120"/>
            <a:chOff x="412920" y="4724280"/>
            <a:chExt cx="3301560" cy="762120"/>
          </a:xfrm>
        </p:grpSpPr>
        <p:sp>
          <p:nvSpPr>
            <p:cNvPr id="470" name=""/>
            <p:cNvSpPr/>
            <p:nvPr/>
          </p:nvSpPr>
          <p:spPr>
            <a:xfrm>
              <a:off x="1366560" y="495288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Prox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2920" y="4724280"/>
              <a:ext cx="3301560" cy="762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in clients and other buzz word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remote access: "thin-client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o need for database client code on the DBI cli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network security: "encryption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an use Crypt::IDEA, Crypt::DES et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"access control" and "firewalls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handy for web serv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action contr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.g., only allow specific select or insert statem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performance: "compression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an compress data transfers using Compress::Zli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</a:t>
            </a:r>
            <a:r>
              <a:rPr b="0" lang="en-US" sz="4800" spc="-1" strike="noStrike">
                <a:solidFill>
                  <a:srgbClr val="00cccc"/>
                </a:solidFill>
                <a:latin typeface="Times New Roman"/>
              </a:rPr>
              <a:t>p</a:t>
            </a:r>
            <a:r>
              <a:rPr b="0" lang="en-US" sz="5400" spc="-1" strike="noStrike">
                <a:solidFill>
                  <a:srgbClr val="00cccc"/>
                </a:solidFill>
                <a:latin typeface="Times New Roman"/>
              </a:rPr>
              <a:t>e</a:t>
            </a:r>
            <a:r>
              <a:rPr b="0" lang="en-US" sz="6000" spc="-1" strike="noStrike">
                <a:solidFill>
                  <a:srgbClr val="00cccc"/>
                </a:solidFill>
                <a:latin typeface="Times New Roman"/>
              </a:rPr>
              <a:t>e</a:t>
            </a:r>
            <a:r>
              <a:rPr b="0" lang="en-US" sz="6600" spc="-1" strike="noStrike">
                <a:solidFill>
                  <a:srgbClr val="00cccc"/>
                </a:solidFill>
                <a:latin typeface="Times New Roman"/>
              </a:rPr>
              <a:t>d</a:t>
            </a: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was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designe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or speed from day 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method dispatcher written in hand-crafted XS/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atch to XS driver method calls optim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ched attributes returned directly by DBI dispatc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overhead is generally insignific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 we'll talk about other speed issues instead 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practical realiti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odes of ope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ulti-threaded Mode - one thread per conn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 safe for production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 is thread-safe but not thread-h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king Mode - one process per conn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st practical mode for UNIX-like syst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oesn’t scale to large numbers of connec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 available on Windows prior to Perl 5.6.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ork emulation in Perl 5.6.0 not tested with DBI y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ingle Connection Mode - one one connection suppor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bviously only of limite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 round-robin mode available y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Flexing the Multiplex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A new kid on the blo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DBD::Multiplex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BD::Multiple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nects to multiple databases at once (via DB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xecutes each statement on each database by defau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uld be configured t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5000"/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inser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into all databases but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sele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from o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llback to alternate database if primary is unavail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5000"/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sele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round-robin / or at random to distribute lo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5000"/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sele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from all and check results (pick most commo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n be used with DBD::Proxy, either above or bel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y also acquire fancy caching in later vers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atch this space: ftp://not.tdlc.com/pub/Multiplex.p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veloped by Thomas Kishel and Tim Bu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Reference Material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9933"/>
                </a:solidFill>
                <a:uFillTx/>
                <a:latin typeface="Arial"/>
                <a:hlinkClick r:id="rId1"/>
              </a:rPr>
              <a:t>http://www.symbolstone.org/technology/perl/DB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he DBI Home Pag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9933"/>
                </a:solidFill>
                <a:uFillTx/>
                <a:latin typeface="Arial"/>
                <a:hlinkClick r:id="rId2"/>
              </a:rPr>
              <a:t>http://www.isc.org/dbi-lists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o subscribe to the DBI Mailing Lis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perl.com/CPAN/authors/id/TIMB/DBI_Talk1_1997.tar.g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My DBI session at The Perl Conference 1.0 - general introdu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perl.com/CPAN/authors/id/TIMB/DBI_Talk2_1998.tar.g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My DBI session at The Perl Conference 2.0 - more dept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perl.com/CPAN/authors/id/TIMB/DBI_Talk4_2000.tar.g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his DBI tutorial at The Perl Conference 4.0 (based on the 3.0 tutorial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oreilly.com/catalog/perldbi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or http://www.amazon.com/exec/obidos/ASIN/1565926994/db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Programming the Perl DBI - 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DBI book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cccc"/>
                </a:solidFill>
                <a:latin typeface="Times New Roman"/>
              </a:rPr>
              <a:t>The end.</a:t>
            </a:r>
            <a:br>
              <a:rPr sz="6000"/>
            </a:br>
            <a:endParaRPr b="0" lang="en-US" sz="6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1115640" y="4114800"/>
            <a:ext cx="824724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66"/>
                </a:solidFill>
                <a:latin typeface="Times New Roman"/>
              </a:rPr>
              <a:t>Till next year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Times New Roman"/>
              </a:rPr>
              <a:t>p.s. I’m also giving three semina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Times New Roman"/>
              </a:rPr>
              <a:t>on the Database Discovery cruise, June 200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Times New Roman"/>
              </a:rPr>
              <a:t>www.GeekCruises.c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artition for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pplication partitio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o what where? - stop and think - work smarter not har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ick the right database for the job, if you have the choi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ork close to the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ving data to/from the client is always expensi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sider latency as well as bandwid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 stored procedures where appropri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o more in SQL where appropriate - get a good boo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ultiple simple queries with 'joins' in Perl may be fast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proprietary bulk-load, not Perl, where appropria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nsider local caching, in memory or DBM file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ix 'n Match techniques as needed - experiment and benchmark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repare for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prepare(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- what happens in the server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ceive and parse the SQL statement into internal for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et details for all the selected tab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heck access rights for ea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et details for all the selected fiel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heck data types in express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et details for all the indices on all the tab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velop an optimised query 'access plan' for best execu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turn a handle for all this cached inform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is can be an expensive proc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specially the 'access plan’ for a complex multi-table que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databases, like MySQL, don't cache the information but have simpler, and thus faster, plan cre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How would you do i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SELECT * FROM t1, t2  WHERE t1.key=1 AND t2.key=2 AND t1.value=t2.valu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e possible approach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lect from one table using the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ke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ie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n, loop for each row returned, and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lect from the other table using its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ke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ield and the current row’s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valu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ie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ut which table to select firs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keep it simple, assume that both tables have the same value in all row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we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know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at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1.key=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atches 1000 rows and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2.key=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atches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n we know that we should select from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fir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cause that way we only have to select from each table o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we selected from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first then we’d have to select from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1000 times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 alternative approach would be to select from both and mer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1:14Z</dcterms:created>
  <dc:creator>Tim Bunce</dc:creator>
  <dc:description/>
  <dc:language>en-US</dc:language>
  <cp:lastModifiedBy>IG</cp:lastModifiedBy>
  <cp:lastPrinted>2000-07-14T21:24:25Z</cp:lastPrinted>
  <dcterms:modified xsi:type="dcterms:W3CDTF">2000-07-18T04:26:47Z</dcterms:modified>
  <cp:revision>93</cp:revision>
  <dc:subject/>
  <dc:title>Integrating Perl and Databa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home\timbo\dbi\Talks\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