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593802"/>
        <c:axId val="57628489"/>
      </c:barChart>
      <c:catAx>
        <c:axId val="305938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628489"/>
        <c:crosses val="autoZero"/>
        <c:auto val="1"/>
        <c:lblAlgn val="ctr"/>
        <c:lblOffset val="100"/>
        <c:noMultiLvlLbl val="0"/>
      </c:catAx>
      <c:valAx>
        <c:axId val="576284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5938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C9FB-3D0A-492B-893D-C343EABC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2A3B-83CF-4BD2-B31C-F1B8BE3B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6A36-977A-4A16-A65B-D88196E19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65C5-3399-4CA6-9352-2F1652ED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BE57-BE26-4484-90CD-6CCC7893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53F3-E7E8-48D6-9169-3E01FFEF1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3BBD-AD0A-43A0-80BF-142CC62A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56FD-826D-44F2-90A4-F95D425D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A2CC-D987-4BA8-BAEF-F322C673A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C10F-A505-4BD6-AE78-3AA29D3B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2749-2CD6-4C44-94D6-244B5131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68B3-3A5F-4916-B146-1C2249F4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B6E46-AEF2-4761-9FBF-46D71A6B70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