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04166"/>
        <c:axId val="68251343"/>
      </c:barChart>
      <c:catAx>
        <c:axId val="33204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1343"/>
        <c:crosses val="autoZero"/>
        <c:auto val="1"/>
        <c:lblAlgn val="ctr"/>
        <c:lblOffset val="100"/>
        <c:noMultiLvlLbl val="0"/>
      </c:catAx>
      <c:valAx>
        <c:axId val="68251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04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5C0-B42A-4292-9781-36172F50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DD6-4987-48E1-B469-A76AE52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5E2-F047-4E7B-AE3A-773F22FF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E6E-F397-4970-9E96-9152F32F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5E2-9858-4A98-A8F7-9D816E78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E40-1BF1-4788-8233-5E3D642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C4C-B440-4A26-AFC6-2F8BDFC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5E1-439A-4E27-B23D-057C8F73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EBD-784F-4830-8E0D-2E614919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677-13FD-4DEB-97FE-F3E363E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C79-598A-4044-B2F6-69B5D71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A6A-1CB0-4DE4-97B6-C422DBF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BD4D5-7EB0-4136-906F-9BA2535C9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