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09462"/>
        <c:axId val="38368008"/>
      </c:barChart>
      <c:catAx>
        <c:axId val="72509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68008"/>
        <c:crosses val="autoZero"/>
        <c:auto val="1"/>
        <c:lblAlgn val="ctr"/>
        <c:lblOffset val="100"/>
        <c:noMultiLvlLbl val="0"/>
      </c:catAx>
      <c:valAx>
        <c:axId val="38368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09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A4C-3F7A-417F-984D-486B3179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92C-282A-4BB6-A7FB-673C1272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135-8B82-4A68-BFA5-D641BBB1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45D-E315-4E63-B95F-BC6EAD86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662-2D33-4A18-9D5C-5E0C6537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9F0-1BBB-4183-989A-35980FB9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C1E-3952-4A94-B38A-82FB3527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460-FD44-43A3-BE68-B0BB947B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533-B525-475C-8802-75F6B0E6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D33-6649-4352-9E69-4379CDC2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3D7-5DAD-408E-8F46-2C94F628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A28-4F1F-490A-B618-BBC30C21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E2BAA-2711-4621-9AEF-74C7010512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