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0846"/>
        <c:axId val="81490462"/>
      </c:barChart>
      <c:catAx>
        <c:axId val="5640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90462"/>
        <c:crosses val="autoZero"/>
        <c:auto val="1"/>
        <c:lblAlgn val="ctr"/>
        <c:lblOffset val="100"/>
        <c:noMultiLvlLbl val="0"/>
      </c:catAx>
      <c:valAx>
        <c:axId val="81490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0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646-4AB9-4386-9C23-908412D3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27F-0528-4F80-B988-7FCB81B5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652-D0D6-42AE-AEC9-1C7E669A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B99-D8A8-4703-A41C-0E0485FB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774-AF2A-49A1-9E8C-5A4DCFA2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C83-F15A-4F27-B782-761428FB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8A6-BADE-4226-B06D-083884B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D50-7778-454D-801C-0D427354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023-4F58-44D4-8B3F-19D6458D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AED-C9EF-4F28-9767-C9B58B7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787-0894-4C2B-8A34-774B70F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A27-020A-4A43-B1C5-B78F5E9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747BB-A612-4107-8F6A-61C302C1E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