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60494"/>
        <c:axId val="67202999"/>
      </c:barChart>
      <c:catAx>
        <c:axId val="41260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02999"/>
        <c:crosses val="autoZero"/>
        <c:auto val="1"/>
        <c:lblAlgn val="ctr"/>
        <c:lblOffset val="100"/>
        <c:noMultiLvlLbl val="0"/>
      </c:catAx>
      <c:valAx>
        <c:axId val="67202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60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1FE-0D2B-4FF2-A0C9-4E9B8217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EE3-E233-4FDC-92E7-EB570025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285-5F1A-4894-9EFB-86864B8B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CEC-1939-4CEA-B7CC-405C890C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933-A9E1-4EB2-9B44-BA1CC916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0B0-59AE-4B14-9A54-724F814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F49-9E61-40F8-95AB-7EE26230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AB2-CF8A-4EC5-9ACF-0A24E045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16B-35F9-4A28-A1D1-C9FCFC07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6BE-EE58-4163-BCA8-3B37C6AE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AEF-9FC9-4739-A32E-241439B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7A0-67F4-49E9-B12E-431DD716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F7628-5F4C-4338-9DE1-DAEEA36C85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