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91974"/>
        <c:axId val="64806520"/>
      </c:barChart>
      <c:catAx>
        <c:axId val="87991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6520"/>
        <c:crosses val="autoZero"/>
        <c:auto val="1"/>
        <c:lblAlgn val="ctr"/>
        <c:lblOffset val="100"/>
        <c:noMultiLvlLbl val="0"/>
      </c:catAx>
      <c:valAx>
        <c:axId val="64806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1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9FD-BE56-452B-8DBE-61AC811D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6F3-D09A-4119-BE45-B83BD30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AA2-BDB8-44DC-8EDB-4A89AE04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C08-4218-4038-A459-08163198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BF1-589F-403D-8788-28B6CF6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37D-F3DD-4488-8FEE-64B2094B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650-2B6A-44A8-A08D-DA85501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B45-7249-4AE6-B852-C5CC3B0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144-154A-4196-8BE7-D0E18BD7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961-B5DB-4B9E-A445-F27206D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1F1-9D64-4F7A-9C49-0525C7A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C24-B889-4CA3-B860-3032F01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60BC5-77D0-43CD-BE82-75C183336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