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462865"/>
        <c:axId val="80579381"/>
      </c:barChart>
      <c:catAx>
        <c:axId val="134628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79381"/>
        <c:crosses val="autoZero"/>
        <c:auto val="1"/>
        <c:lblAlgn val="ctr"/>
        <c:lblOffset val="100"/>
        <c:noMultiLvlLbl val="0"/>
      </c:catAx>
      <c:valAx>
        <c:axId val="805793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628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4651-0EF2-4F02-A91D-D693D92A4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D464-68E6-4531-8C66-BCBA7983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3D80-8221-4AE6-913E-291BDFC19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0AE5-273B-440C-926E-7246EFB7F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E678-049E-4DDD-92C1-25204206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9D28-5F5A-4716-9834-B50E2DC7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183F-F296-478E-8B76-185C0F21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D1A9-6779-4607-A372-44F99913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B468-870D-44B8-A850-A010FF4D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A4AE-ECED-4C4E-AAD4-C275C710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168A-FC4F-42F4-9BEC-7741E569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7F3F-DD6C-4FA1-A936-3A175581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88571-5CC1-498D-AA1F-1821F3D23C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