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00802"/>
        <c:axId val="22713202"/>
      </c:barChart>
      <c:catAx>
        <c:axId val="17100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3202"/>
        <c:crosses val="autoZero"/>
        <c:auto val="1"/>
        <c:lblAlgn val="ctr"/>
        <c:lblOffset val="100"/>
        <c:noMultiLvlLbl val="0"/>
      </c:catAx>
      <c:valAx>
        <c:axId val="22713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00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939-06BF-4C70-AEF4-1D7F78BA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4CD-BD4A-48FB-95E5-2827C35C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C7A-69C6-41ED-A4D0-25FB26E5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97D-3A07-485E-A8E1-01E5FC70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703-787E-4357-87B9-CE4B9EC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34A-F560-4044-A1DB-2C9504B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D31-E3B2-494D-A3A7-8EB6A0AA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1BB-2521-4D15-A378-A43924B3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876-A78B-4AB9-B690-D4F8FD6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1C5-406B-4A66-8BFB-8BFFE05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C2E-3092-45A9-9469-038FB0B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773-36FC-4357-8C94-1DF0A63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92D61-E2E5-4777-A2DA-F0C3C9EE8F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