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68851"/>
        <c:axId val="15436853"/>
      </c:barChart>
      <c:catAx>
        <c:axId val="71768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36853"/>
        <c:crosses val="autoZero"/>
        <c:auto val="1"/>
        <c:lblAlgn val="ctr"/>
        <c:lblOffset val="100"/>
        <c:noMultiLvlLbl val="0"/>
      </c:catAx>
      <c:valAx>
        <c:axId val="15436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68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06F-BFA1-409B-A37F-84EE1E57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DF7-503E-47FD-A324-99D20B6C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131-97B6-48E1-AEA8-A807364E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3C1-80C7-4E58-8A48-4B0DD5B4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C6E-284C-4ED1-8628-BBC37EE7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0B5-10C6-4297-914C-6F3411D1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988-6EBC-4850-B3F0-E25368DE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643-D9EC-4FD4-989F-E84B830E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851-2CD7-4DE6-B59D-4ED7B13A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96B-66A5-4FD4-BCEC-67114BB2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FA8-8407-4191-AF9E-349CDD08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490-2439-447D-838B-015897DE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BD59F-F274-42BE-A324-5973EDC06E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