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9310573"/>
        <c:axId val="164210"/>
      </c:barChart>
      <c:catAx>
        <c:axId val="4931057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4210"/>
        <c:crosses val="autoZero"/>
        <c:auto val="1"/>
        <c:lblAlgn val="ctr"/>
        <c:lblOffset val="100"/>
        <c:noMultiLvlLbl val="0"/>
      </c:catAx>
      <c:valAx>
        <c:axId val="16421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31057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04DE9-A00D-452A-897F-F233FE16E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27E93-94B2-4CA7-9980-832CF830D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489C3-46FE-45E6-9F94-75E474671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2B511-2FB1-4B49-AD33-4A11BA857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97223-53A7-4821-A18C-2872FB215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F0981-49AF-4132-B20E-E73101812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2B94E-07F1-4836-8DE1-093E32C4D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63FEF-3C39-430F-B732-C4157AC7C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FF088-7215-47E0-A229-D3C1AD5A3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E4322-68EF-40E3-862A-F9CA98115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4AD97-A937-4E31-BEA9-5B126BED6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6265B-ECD1-4FA8-B439-97AA5CB3C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3CB2C5-5670-4EBC-94DC-6FE1E918F44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