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413404"/>
        <c:axId val="28772094"/>
      </c:barChart>
      <c:catAx>
        <c:axId val="664134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72094"/>
        <c:crosses val="autoZero"/>
        <c:auto val="1"/>
        <c:lblAlgn val="ctr"/>
        <c:lblOffset val="100"/>
        <c:noMultiLvlLbl val="0"/>
      </c:catAx>
      <c:valAx>
        <c:axId val="287720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134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C50A-250A-4381-BD8F-62E15B62A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376E-61F6-4CA6-85F2-E9F3A331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3C6A-7EA5-4DB1-9BD8-CAB1FBDE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27EE-859D-43E8-B662-4145CE6A7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CE32-3C65-4955-830A-D9704889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A796-5A18-40D4-B805-2E24F059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CBAC-1547-455A-9347-C3909E7D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7588-7A6C-4CAD-A94E-5BFF5CC9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4039-DF7D-4272-9F55-A4A4A38E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2ACB-E9E5-481B-8E5E-7FA36071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FDE6-0CCB-4675-B610-87BCFF68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5C5A-6E1F-491B-BF0B-A7350DD0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F6A32-275E-433B-930B-F6580B2E59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