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757831"/>
        <c:axId val="89966700"/>
      </c:barChart>
      <c:catAx>
        <c:axId val="347578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66700"/>
        <c:crosses val="autoZero"/>
        <c:auto val="1"/>
        <c:lblAlgn val="ctr"/>
        <c:lblOffset val="100"/>
        <c:noMultiLvlLbl val="0"/>
      </c:catAx>
      <c:valAx>
        <c:axId val="899667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578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104E-0F13-450D-8DE9-55CC3A27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7713-5D43-4292-8D2C-C880D01D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7748-1B82-40FA-8212-36F22E07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6B66-06A6-4182-8CC9-B3E8A700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0E5F-E2B9-4F13-9FE8-31B99970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B6D5-AE43-49B4-A771-4AFDA35D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88D2-CC09-40C3-ABA9-3E326966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EB9C-2042-4A20-AD56-A9D413AD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0D62-D36B-4D78-8302-F75875D3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EA8A-7DEB-4921-9DC2-D8288A17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4970-C36C-4F63-9F35-4D538C41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1C6C-3F19-4664-9D31-7F69D85C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DF046-0B92-4072-8948-B1979E113C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