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2155205"/>
        <c:axId val="97653780"/>
      </c:barChart>
      <c:catAx>
        <c:axId val="7215520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653780"/>
        <c:crosses val="autoZero"/>
        <c:auto val="1"/>
        <c:lblAlgn val="ctr"/>
        <c:lblOffset val="100"/>
        <c:noMultiLvlLbl val="0"/>
      </c:catAx>
      <c:valAx>
        <c:axId val="9765378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15520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CE1C-22BD-4997-87E0-D3FC5D974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71AF-637F-4833-B626-8B9EDFA32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AE2D-9781-463C-A198-CB64DDDD0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3611-F06B-41DA-BA31-DBCF5D336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F674-1325-457A-AD19-6D98B05D6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0143-CF1D-42F8-938C-A0571602B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2AF3-83B3-4D51-AD45-C722B42FE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0DD4-CE0D-40BE-95A8-C6F5CA346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9DCA-0818-4A52-9E3B-ECB698512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19F2-9E18-41F5-BA8D-A28C76302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85B1-A482-4E35-AB36-C073F5A35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131C-3109-4B02-BFF7-5099D2551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8D8D19-E853-45BF-9989-A605E339268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