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02421"/>
        <c:axId val="11455413"/>
      </c:barChart>
      <c:catAx>
        <c:axId val="18502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55413"/>
        <c:crosses val="autoZero"/>
        <c:auto val="1"/>
        <c:lblAlgn val="ctr"/>
        <c:lblOffset val="100"/>
        <c:noMultiLvlLbl val="0"/>
      </c:catAx>
      <c:valAx>
        <c:axId val="11455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02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7A5-518A-4190-8F64-113051D7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4DF-293F-4279-8CEC-16FCCBCB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46D-D7D8-42CC-B705-D3FFA6E9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AD5-D599-40F0-9239-D15461AD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9B2-C04C-4994-9F11-C2071464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2C9-3357-4343-A93B-6F621563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E1E-ADC2-49AB-93C0-AE14FE1A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FBA-6AE8-4DF1-8536-546610B8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028-8099-4DCC-AD7B-2A9C4C69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AB6-7BE0-4975-9CB6-F60C6429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AD9-8C95-4663-96AF-EF324E5D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6C0-4E98-4799-86BF-DA71DD20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D7A15-8689-43B9-819B-ACF9CEC2C2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