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79734"/>
        <c:axId val="68258867"/>
      </c:barChart>
      <c:catAx>
        <c:axId val="20879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58867"/>
        <c:crosses val="autoZero"/>
        <c:auto val="1"/>
        <c:lblAlgn val="ctr"/>
        <c:lblOffset val="100"/>
        <c:noMultiLvlLbl val="0"/>
      </c:catAx>
      <c:valAx>
        <c:axId val="68258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79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EBA-5948-40F1-AF6A-9FD6DFC2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10C-E8D8-4BF9-B30D-1C6FA4FC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4E8-0E87-42EF-9FA6-059BC325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9A5-1272-4309-952A-98B3EF91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BE3-E266-49A5-8E2D-6748854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354-313E-4F00-A5F4-497D933C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810-5192-4DDA-A65D-E1D41EEC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BE1-1A09-4759-9CBD-9EC1408C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2CD-49BB-4F1D-AE10-45B3921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95E-6027-4773-BFDB-7A58804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A7E-85B3-4928-8B3D-D0DCCE3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340-8EC1-4ABD-8C45-CEA08D3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6E889-ABBB-40F8-A1B0-18FDD51694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