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35245"/>
        <c:axId val="6944065"/>
      </c:barChart>
      <c:catAx>
        <c:axId val="60235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4065"/>
        <c:crosses val="autoZero"/>
        <c:auto val="1"/>
        <c:lblAlgn val="ctr"/>
        <c:lblOffset val="100"/>
        <c:noMultiLvlLbl val="0"/>
      </c:catAx>
      <c:valAx>
        <c:axId val="6944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35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FE8-0B21-4898-9673-E2037A2E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DD2-E883-4202-A6B5-C54F644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553-68D9-4D04-8523-C47893F2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1FF-5ED8-44C7-B766-7A5125B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6C0-D9A2-4150-890D-8C6B866B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640-9187-46B4-BC7E-1EA3928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B40-39CD-4F44-86A7-2C287BD5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248-C3D0-46E7-8EEC-AD9830EC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CE0-3D28-446D-8427-EBAFC13D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2D3-6F63-44FC-9157-23FADDD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626-C7E8-40DE-A70D-1D5C6F2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99E-7260-4C99-B58B-C11063B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4B6C5-F3D3-43B0-9A72-518A5F912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