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72323"/>
        <c:axId val="94046569"/>
      </c:barChart>
      <c:catAx>
        <c:axId val="58072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46569"/>
        <c:crosses val="autoZero"/>
        <c:auto val="1"/>
        <c:lblAlgn val="ctr"/>
        <c:lblOffset val="100"/>
        <c:noMultiLvlLbl val="0"/>
      </c:catAx>
      <c:valAx>
        <c:axId val="94046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72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950-28C4-4590-8B7E-FEE66830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2FB-6844-408C-8261-1C26A64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0C5-6A8C-4727-9FD5-BFCF8AD2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20D-40CC-42FA-BEE8-B197E0C3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40D-7A54-424D-ACE0-38458A82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2C8-0DFA-45C5-AC50-81146488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FEC-29E4-4739-B85B-A76CB24F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43D-7112-48F4-AAC0-0A31929B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244-0CE5-43DA-AE40-EAD66FB1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6E3-764A-4862-BD75-D99382EA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E22-09DD-4D5D-A8B5-B6CF87A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9AD-C221-486F-A769-AC93059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60133-FD91-40C7-9B37-E50CD701A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