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38773"/>
        <c:axId val="42488128"/>
      </c:barChart>
      <c:catAx>
        <c:axId val="67938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8128"/>
        <c:crosses val="autoZero"/>
        <c:auto val="1"/>
        <c:lblAlgn val="ctr"/>
        <c:lblOffset val="100"/>
        <c:noMultiLvlLbl val="0"/>
      </c:catAx>
      <c:valAx>
        <c:axId val="42488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8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57F-1490-4FCF-8A57-FEFE26CD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FCB-B847-48CD-9CDC-307AA097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B5F-9679-48E8-A6E2-625B92AB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D44-1F15-41EB-BD26-52470D0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601-077D-4683-96D6-26A85A19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F34-CACE-41EF-BDEC-9E04FD0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F5A-DD2C-4450-AD72-A3274710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AF4-8048-44E2-B5EF-F1BDFB0A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762-1177-45E9-BB2B-ADB955FE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042-BB07-4E6E-B622-4C38CB7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1BC-59F5-421B-BDCE-607751B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4E4-3F48-405D-A1C0-F8814804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FB19-0AD7-46EB-B733-A4155B7E60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