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70398"/>
        <c:axId val="59096987"/>
      </c:barChart>
      <c:catAx>
        <c:axId val="84070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96987"/>
        <c:crosses val="autoZero"/>
        <c:auto val="1"/>
        <c:lblAlgn val="ctr"/>
        <c:lblOffset val="100"/>
        <c:noMultiLvlLbl val="0"/>
      </c:catAx>
      <c:valAx>
        <c:axId val="59096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70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D78-DF9F-4963-A39E-9352E644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A7D-3E0C-4956-94FE-FF18A271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956-455A-414D-91B6-E85EFE7C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434-C34D-435A-B01F-A67A6BF3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12E-BC00-4521-9D13-082BDAA8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C75-8FDA-403D-8B9E-DFE09575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A82-D020-4C96-A5BA-52356F94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90C-7CC3-4008-BF46-7A464A8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9CE-F0E1-4E95-9145-253B69B8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812-C81E-49B8-A405-3E03B9C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E11-D22E-42E3-BA0C-F1B987D3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06D-F5BD-4577-9CE7-53C936E4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6B1EE-BAE1-48EB-B337-D99E11CF15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