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44126"/>
        <c:axId val="74247786"/>
      </c:barChart>
      <c:catAx>
        <c:axId val="36144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7786"/>
        <c:crosses val="autoZero"/>
        <c:auto val="1"/>
        <c:lblAlgn val="ctr"/>
        <c:lblOffset val="100"/>
        <c:noMultiLvlLbl val="0"/>
      </c:catAx>
      <c:valAx>
        <c:axId val="74247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44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3A7-E2BC-4899-8993-B5BD83ED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667-9512-4CE1-AB18-E3D8779C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36D-B7B2-48D0-B602-EDFD9A42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C8E-C397-41E4-9EFD-CF1A33B1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3BA-2D62-4E1E-94E4-890C27BB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D63-9DA9-4F32-9807-D01D481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961-EC6D-4B1B-8EC8-1AD9F53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ACC-8E9B-4F8A-820F-FD181D2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FBA-028B-4567-81E8-06773C5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BA8-7E36-4D3C-BBA8-E9B19A9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D17-EBB8-4EF7-BA4E-9487927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3D2-E547-4D5A-8E3B-EB2A7CC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D2C92-55C3-4D90-B7A1-EAEC11D82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