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122567"/>
        <c:axId val="92085762"/>
      </c:barChart>
      <c:catAx>
        <c:axId val="171225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85762"/>
        <c:crosses val="autoZero"/>
        <c:auto val="1"/>
        <c:lblAlgn val="ctr"/>
        <c:lblOffset val="100"/>
        <c:noMultiLvlLbl val="0"/>
      </c:catAx>
      <c:valAx>
        <c:axId val="92085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225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41D-CDA7-4C70-B41C-89A4A9EB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C66-A400-4F9D-8274-B4AE59A1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D04-4824-42C1-91C8-6BD94B27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F69-8787-4570-B0CC-C2F5A8DA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1ED-0187-4442-AF75-AF7228EE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851-D2D5-4288-8E8B-EDF92334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1BA-2734-403A-BCF7-64E0DF5E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37E-2391-47A9-A2BE-7F9C21F6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4B4-D7FF-4715-9C35-E2912142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A63-200E-4562-803F-971099D8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3B2-A1C4-43F7-8BA8-CEDF34F4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528-4C08-4525-A9CA-CF5D65D1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941AB-66D1-4271-BCBD-9BAF24EFA6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