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95320"/>
        <c:axId val="9716819"/>
      </c:barChart>
      <c:catAx>
        <c:axId val="20195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6819"/>
        <c:crosses val="autoZero"/>
        <c:auto val="1"/>
        <c:lblAlgn val="ctr"/>
        <c:lblOffset val="100"/>
        <c:noMultiLvlLbl val="0"/>
      </c:catAx>
      <c:valAx>
        <c:axId val="9716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95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6D1-0A4A-4D7A-A55F-4E53457C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A18-2205-4B57-8D02-AE3CD9BF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C5E-9156-46FC-BDD6-16390622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615-7212-4A6B-B28E-27DD44EA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6B5-C2C7-4AEE-8D96-8970F9A5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AB9-B9D7-46FF-8242-179AE5AB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089-C6F6-493D-9E43-366E1B1C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824-3D07-47C1-A023-5A41C16D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AEA-7F93-4772-BD28-027501D6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FA7-92ED-451F-80FA-FE9EE6B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603-89F5-4373-9ADC-C6896B29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0FF-B3E4-4579-A55B-47D99BB0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72AD8-572A-47B1-AF07-37EFB67E37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