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99548"/>
        <c:axId val="79141110"/>
      </c:barChart>
      <c:catAx>
        <c:axId val="86099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41110"/>
        <c:crosses val="autoZero"/>
        <c:auto val="1"/>
        <c:lblAlgn val="ctr"/>
        <c:lblOffset val="100"/>
        <c:noMultiLvlLbl val="0"/>
      </c:catAx>
      <c:valAx>
        <c:axId val="79141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99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3EB-51DB-4789-BA86-43C396CF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CA0-AFC2-4CF6-B33F-41EBB099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487-98FE-4E95-BA8D-0E6D528B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6AA-30F4-4200-8092-CDE0203B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4D8-CE04-4813-8771-872C4DB6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0C9-A4B8-4594-8B78-4E202C53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FCB-7634-4791-9960-DB204E85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091-F6AD-41E4-935B-111DC339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565-F7FB-4D82-B841-077CD90E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13F-D697-4024-9AB7-C66CE59F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AF1-7F75-4DF5-B83D-394008E4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C84-3489-42D3-8C14-0516E38E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B2B24-8BAB-4F0F-950C-FBC772C85B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