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25543"/>
        <c:axId val="76222515"/>
      </c:barChart>
      <c:catAx>
        <c:axId val="64425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22515"/>
        <c:crosses val="autoZero"/>
        <c:auto val="1"/>
        <c:lblAlgn val="ctr"/>
        <c:lblOffset val="100"/>
        <c:noMultiLvlLbl val="0"/>
      </c:catAx>
      <c:valAx>
        <c:axId val="76222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25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ECC6-0FC0-4944-A973-7B3A6071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42E-333D-4D9C-893B-273CC51A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688-4BFB-4CD5-B7C1-D057C817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FBB-6E3A-4D64-8AF2-B6F4F224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82F-2814-41AD-BF82-EC64A317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5CD-7D91-40EA-A61E-BCC6E938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2C2-F103-4768-92CE-8B46A6D5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F17-B7DA-4EBC-8EBB-EFA076B9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4FB-AFFB-4513-BE34-EEE786C0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8E1-72D7-4A9A-99F0-E44B0BB6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F08-DD77-4F49-88AE-534A9474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A53A-CE29-41A7-829C-FAE5DBA6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FECDC-3C27-4731-9741-5C0DF61C7F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