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483848"/>
        <c:axId val="19226970"/>
      </c:barChart>
      <c:catAx>
        <c:axId val="734838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226970"/>
        <c:crosses val="autoZero"/>
        <c:auto val="1"/>
        <c:lblAlgn val="ctr"/>
        <c:lblOffset val="100"/>
        <c:noMultiLvlLbl val="0"/>
      </c:catAx>
      <c:valAx>
        <c:axId val="192269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4838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B1F9-504D-46FE-A6C9-A8BCA9087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B820-D05C-494C-9582-829D6999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579B-F0E3-48F2-87B1-FBEFEE0AD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0739-2C6C-448B-AE28-39C22A199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048F-C445-4F81-8AA2-508D0556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93A4-A524-42CA-8675-5514D121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C39F-428E-4C74-92D6-179C8BFF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6CC1-E27E-4E6A-9F48-17EF5E58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22E2-543C-469F-BA55-71B1D72B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4824-F854-4B53-A175-FD9ED515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F714-A6C1-4623-B7EE-806E6882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C2D3-83AC-475C-BBF5-10583768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3C131-1A35-4422-AF73-C09FE64DC7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