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08310"/>
        <c:axId val="20520956"/>
      </c:barChart>
      <c:catAx>
        <c:axId val="28208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20956"/>
        <c:crosses val="autoZero"/>
        <c:auto val="1"/>
        <c:lblAlgn val="ctr"/>
        <c:lblOffset val="100"/>
        <c:noMultiLvlLbl val="0"/>
      </c:catAx>
      <c:valAx>
        <c:axId val="20520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08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E84-F117-4EBA-8DE4-2CDB47D2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029-015D-4C57-B3F8-93387BB8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0BD-9866-4E0E-9431-B1110A0D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D24-0A95-4D42-881E-F2AF5D22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69B-D16A-4634-B2BD-50793484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178-2095-4C53-97E7-136BE4C3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A22-FA31-4363-BE81-6D5DEC22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109-85F3-4DF9-A3FB-F2F60F59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619-8504-4C43-BE99-848A8C1A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36A-1B6A-4B5A-BA90-65CAA3A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32F-BDEA-4A73-85C7-DCD55EF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DEB-F6CE-4DAC-ABF8-2895AFC7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B1358-AD34-4AE5-9460-060231CC8F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