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8004"/>
        <c:axId val="44650169"/>
      </c:barChart>
      <c:catAx>
        <c:axId val="3548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0169"/>
        <c:crosses val="autoZero"/>
        <c:auto val="1"/>
        <c:lblAlgn val="ctr"/>
        <c:lblOffset val="100"/>
        <c:noMultiLvlLbl val="0"/>
      </c:catAx>
      <c:valAx>
        <c:axId val="44650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8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75F-E99D-41F9-87DC-785FF97D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113-C445-40E8-BE0C-D48B0253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B13-0679-468C-B404-B41E6D49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685-1362-4F4C-AD55-62E0922A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931-999A-454A-B3B4-E2255D1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187-97ED-4D71-B2E4-BFF1E9F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55C-9ABE-447F-9E18-3BBF3358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10E-6D11-4093-8939-B4DED211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20A-EA5D-4C5E-9D8C-0515D57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83B-6064-4B40-A2AB-FD4F83D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B1A-97A4-4DAF-8ACE-44ED782D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760-1F54-4A39-B4B7-481D8C9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E365B-E831-431B-9533-88641CD69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