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86374"/>
        <c:axId val="44942734"/>
      </c:barChart>
      <c:catAx>
        <c:axId val="91286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42734"/>
        <c:crosses val="autoZero"/>
        <c:auto val="1"/>
        <c:lblAlgn val="ctr"/>
        <c:lblOffset val="100"/>
        <c:noMultiLvlLbl val="0"/>
      </c:catAx>
      <c:valAx>
        <c:axId val="44942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86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E5D-F1A5-442A-98DF-CD15BD9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D68-D866-49A1-8D2E-0B684BC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4E7-A1BD-4128-BE2D-E826C261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1EB-7D54-47AF-92B9-C2A1CBE6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E2A-816F-426B-8175-5BAC4FD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77E-1EB8-43CE-9987-96EBDC18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4D9-8241-44A4-951A-7A31D33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F9A-D9BE-4ACD-BD8D-DB0D37C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21F-DBBF-4134-890A-706FBB7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B4A-F7FC-4AB1-97F0-87C9EF2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E9D-4553-4FD2-8B86-400D3D3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1B6-BD5A-4657-A086-1988A9B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C768F-9E6F-449D-B167-7966D0B4C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