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03856"/>
        <c:axId val="60864259"/>
      </c:barChart>
      <c:catAx>
        <c:axId val="63203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64259"/>
        <c:crosses val="autoZero"/>
        <c:auto val="1"/>
        <c:lblAlgn val="ctr"/>
        <c:lblOffset val="100"/>
        <c:noMultiLvlLbl val="0"/>
      </c:catAx>
      <c:valAx>
        <c:axId val="60864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03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7D4-A9DC-47D0-8192-F548EB78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96C-BA13-4B4A-9320-94478DC6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C85-7B1A-4703-AF22-CDD816F1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7BB-A51C-4FF5-A9C0-E49A2D23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823-575B-4382-AF33-2E7DB80C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C45-6536-432B-A8C9-DEF9D1D2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F28-FEA4-44AC-9E51-7220E9EA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817-D944-4B68-92E1-714148DC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658-2946-408F-9843-D9F0242B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AEA-C592-47B6-BF77-D9238FF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A0B-1AE3-407C-96E3-974F5D59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C1E-9B3A-48FE-9D2C-7DE4D54B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F71E8-A256-4D6A-A583-8D60E8FECF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