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37654"/>
        <c:axId val="63087571"/>
      </c:barChart>
      <c:catAx>
        <c:axId val="23437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87571"/>
        <c:crosses val="autoZero"/>
        <c:auto val="1"/>
        <c:lblAlgn val="ctr"/>
        <c:lblOffset val="100"/>
        <c:noMultiLvlLbl val="0"/>
      </c:catAx>
      <c:valAx>
        <c:axId val="63087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37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F4C-CFCE-4198-BDFA-F4AD330B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84B-0C3E-44BE-B46A-33460028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C51-3DB5-4CB4-A3BE-13E042B9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FC3-4702-4500-8040-6CC71887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269-6625-46C8-A6F6-EE192548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8AE-4C8D-4441-9E6E-63E201B2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C49-1D13-4F33-B0DE-F374AFE3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36D-8802-4179-A789-A076A0F9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BB7-83D0-441C-8CF8-C360E108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0F5-ABCC-48A2-A8BD-2B7D6EA9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11A-A337-46EC-85C8-A8721E56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D1E-B8BD-41A8-A6EB-91D15F0D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36E33-E663-4323-B640-194A66ADCA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