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24884"/>
        <c:axId val="36375480"/>
      </c:barChart>
      <c:catAx>
        <c:axId val="78124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75480"/>
        <c:crosses val="autoZero"/>
        <c:auto val="1"/>
        <c:lblAlgn val="ctr"/>
        <c:lblOffset val="100"/>
        <c:noMultiLvlLbl val="0"/>
      </c:catAx>
      <c:valAx>
        <c:axId val="36375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24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34C-E60E-4DD4-B5F7-B87AFDD4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188-7072-4862-8625-3015A614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2FA-046A-4418-909B-6CF52D74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B49-B10A-4BC0-9FB2-E4F90DD9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899-AE54-4AD6-8FE6-E4274CF6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0AF-42C9-424B-9504-4A6D133D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EE8-ED99-448B-BC27-5C924500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412-8D09-4BE6-8EC1-A74BB638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6C3-8B78-4556-A0B6-4E39222E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058-9BE4-4850-97A1-14E14907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741-5924-4278-80B9-7A35BC62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E3A-5E96-4457-8849-B067E04E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A5AA5-4702-4A04-B6D0-43E8FB63B8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