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87550"/>
        <c:axId val="93148303"/>
      </c:barChart>
      <c:catAx>
        <c:axId val="83487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48303"/>
        <c:crosses val="autoZero"/>
        <c:auto val="1"/>
        <c:lblAlgn val="ctr"/>
        <c:lblOffset val="100"/>
        <c:noMultiLvlLbl val="0"/>
      </c:catAx>
      <c:valAx>
        <c:axId val="93148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7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EFB-4EFC-4399-A1AB-4B675045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ED6-6705-40FA-9B38-4742E46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25C-BB4F-4C9C-A40F-7812DA95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373-64AA-4F73-B97A-5A6F4F5C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11D-0B16-450E-AB8B-CB1E945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06C-D61F-4114-8EEE-E3E91F4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B48-1EA8-48DF-9C33-C79921F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991-392C-48FF-B50B-FD576DB0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F18-FA57-490E-ACFA-132FADD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655-1521-421B-8CD1-3E530F1E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977-95CF-4F62-9F24-D725B33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731-8758-4F06-BFC3-9FD50DD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55B08-BE74-4A4A-9F25-8EB9AD2D09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