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00405"/>
        <c:axId val="9793169"/>
      </c:barChart>
      <c:catAx>
        <c:axId val="16400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169"/>
        <c:crosses val="autoZero"/>
        <c:auto val="1"/>
        <c:lblAlgn val="ctr"/>
        <c:lblOffset val="100"/>
        <c:noMultiLvlLbl val="0"/>
      </c:catAx>
      <c:valAx>
        <c:axId val="9793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00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A6F-847E-4789-84FB-4AB54E5F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8DF3-FA2E-4600-992C-FE7C6785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09B6-845C-4677-90E4-77E4F8D0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B45-E17F-4674-A8EE-A8A34A19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535-360B-4F1E-A34E-3A1EF41C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367-E51D-45BD-B9C1-D9060FDB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1CD-FEAB-4D8F-AC14-F3161413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A43-8C46-4019-A669-1E196BC4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CD4-1F13-4EB1-ACD6-A79D3F76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594-5A54-4890-AF55-6D8B2EB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637-3943-4B72-BDA5-87FA549F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1A2A-14F6-4FBC-BDC7-943FE3DC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919D4-0A8B-4663-8C31-B61BC4E70D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