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55923"/>
        <c:axId val="31025122"/>
      </c:barChart>
      <c:catAx>
        <c:axId val="251559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25122"/>
        <c:crosses val="autoZero"/>
        <c:auto val="1"/>
        <c:lblAlgn val="ctr"/>
        <c:lblOffset val="100"/>
        <c:noMultiLvlLbl val="0"/>
      </c:catAx>
      <c:valAx>
        <c:axId val="310251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559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B0A-F4E6-461C-9E01-B6E1CD01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8704-5FB1-45FD-A6D6-3BB584A3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05AA-1B2F-4F69-BD4A-2FD72D14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FF99-3535-424F-A0F5-4B41A3F9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748C-C8C1-48C2-9374-ED76BD71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A61E-3D85-455D-9439-3A6D2C67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E4E7-52AF-4697-86E7-98ABCE58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62FE-0CA8-4A3B-9DCF-B893C393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B8C-C7C1-4037-A9F9-56827556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DD5A-DD56-4B9B-A35D-BFA50E27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B797-42B3-4302-A47E-08595512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6B9A-D9C3-4D0A-88C7-B6D61317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940F8-B9F2-478D-8D99-7BBD355B89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