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5246"/>
        <c:axId val="41654746"/>
      </c:barChart>
      <c:catAx>
        <c:axId val="25352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54746"/>
        <c:crosses val="autoZero"/>
        <c:auto val="1"/>
        <c:lblAlgn val="ctr"/>
        <c:lblOffset val="100"/>
        <c:noMultiLvlLbl val="0"/>
      </c:catAx>
      <c:valAx>
        <c:axId val="41654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52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F62-3BAE-4427-961D-BE985E77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474-227A-4A8A-A373-7F9437C4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DE6-9D7F-4A2D-833C-10208D87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283-33CA-4C6F-9FDD-70B4B789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2E7-4DD0-4C7F-B7D9-14E1A852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6D00-DE72-4DD4-9F4D-B7C09510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503-A03B-4C12-A745-68BD12EE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7D6-F752-459A-8742-8A7874A3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0F5-E254-43AE-BC79-5BDAAB21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2322-E10B-44F0-9410-33AF06E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D497-86D2-4536-A338-AB00985B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257-6A0B-4024-BAC3-2C53B0D9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1D2CE-A6DE-45FF-9ED2-E1F7C34AFE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